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2EE9-2A6B-496B-AEF4-F39993B9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2AB5-01FC-4605-8538-7802B723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ABFF-7C24-4BAA-9B74-E69E8A97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23C-8507-43D6-A27F-2E730270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B59-A239-4847-A296-A294419C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A57-4EE7-40E1-A59F-E699DE5B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B23-0C6C-437E-8079-33EBF5AE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181-47C1-41CE-8FCF-C6978E8A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2A7-DFE3-4740-AF8A-CF892F45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D5A-D42C-4693-A572-9B344C4E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66E-EE31-4F5C-895E-2E4F098D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3E2-1DC3-406F-BBBB-D5C5D4C6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11E-DF3C-418E-A235-4157AD5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EDB-CFF1-4A0D-B35B-473815C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D29-DC81-4975-AED0-1C7C83F9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D022-5ADE-46FF-AB24-8D5AC00EF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east and west Germany, the Berlin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93640" y="15606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69960" y="156060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1066680"/>
            <a:ext cx="37335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d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.S., France, Great Britain, West Germany, West Berlin VS Soviet Union, East Germany, East 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blockad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8, 1948: Soviet guards halted all passenger trains and traffic to Berlin. June 24, 1948: Soviets severed land and water communications between non-soviet zones and Berlin. June 25, 1948: Easterners stopped supplying food and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airlif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1949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supplied West Berlin with food, medicine, and coal because Stalin put a blockade which prevented any supplies from being moved through East Berlin to West Berlin. Thousands of tons of food, medicine, coal airlifted by airplanes and dropped in West Berl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Wal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 Germany constructed it. Completely cut off West Berlin from East Berlin starting on August 1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96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rved to prevent e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bout 5,000 attempted escapes over wall. -- Death toll 100-2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48320" y="1219320"/>
            <a:ext cx="373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: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d: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on: Ea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: West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hrough Berlin Blockade, Berlin airlift, and Berlin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41360" y="417600"/>
            <a:ext cx="73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2:05Z</dcterms:created>
  <dc:creator>er14940</dc:creator>
  <dc:description/>
  <dc:language>en-US</dc:language>
  <cp:lastModifiedBy>Brandon Amato</cp:lastModifiedBy>
  <dcterms:modified xsi:type="dcterms:W3CDTF">2012-04-19T14:58:04Z</dcterms:modified>
  <cp:revision>6</cp:revision>
  <dc:subject/>
  <dc:title>Creation of east and west Germany, the Berlin wall</dc:title>
</cp:coreProperties>
</file>