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8227-5177-4809-AE0F-54A6F3CC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F077-E335-450A-BED2-592955F3A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134D-471F-4806-9169-05FDD1D0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000-9CC7-48A1-8AD9-28BF2A42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6B3-7A56-4F12-8FAD-223413B1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3B3-7E38-4FDA-9101-D8857394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3DD-0DA1-4C9D-9067-5E543F72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9AA-CBF7-446E-83F2-215B2580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3CC-4830-4E09-8E60-EC9BBB6D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FC1-9B05-4AE8-BF15-DAFC8B83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A68-4F40-4FAC-8428-474C8202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E5D-BC7C-41DF-BF80-2A15855E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6C3-3DCC-4402-9F51-2A40F2C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470-53AC-4D8D-9CB4-7E9C626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64A-6DF3-4FD5-8870-90A839AB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5E57-0DF6-453D-9FC6-85F32A147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f east and west Germany, the Berlin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93640" y="15606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69960" y="1560600"/>
            <a:ext cx="359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1066680"/>
            <a:ext cx="37335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d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.S., France, Great Britain, West Germany, West Berlin VS Soviet Union, East Germany, East Ber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blockad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8, 1948: Soviet guards halted all passenger trains and traffic to Berlin. June 24, 1948: Soviets severed land and water communications between non-soviet zones and Berlin. June 25, 1948: Easterners stopped supplying food and electri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airlif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1949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supplied West Berlin with food, medicine, and coal because Stalin put a blockade which prevented any supplies from being moved through East Berlin to West Berlin. Thousands of tons of food, medicine, coal airlifted by airplanes and dropped in West Berl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Wal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 Germany constructed it. Completely cut off West Berlin from East Berlin starting on August 1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96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rved to prevent e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bout 5,000 attempted escapes over wall. -- Death toll 100-2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48320" y="1219320"/>
            <a:ext cx="373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: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d: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on: Ea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: West 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through Berlin Blockade, Berlin airlift, and Berlin w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41360" y="417600"/>
            <a:ext cx="73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2:05Z</dcterms:created>
  <dc:creator>er14940</dc:creator>
  <dc:description/>
  <dc:language>en-US</dc:language>
  <cp:lastModifiedBy>Brandon Amato</cp:lastModifiedBy>
  <dcterms:modified xsi:type="dcterms:W3CDTF">2012-04-19T14:58:04Z</dcterms:modified>
  <cp:revision>6</cp:revision>
  <dc:subject/>
  <dc:title>Creation of east and west Germany, the Berlin wall</dc:title>
</cp:coreProperties>
</file>