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DD59-48C9-4C52-8C4B-2F281D351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373-44B6-4582-8CE4-267FE406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7A6A-A8D8-4369-8CFC-5CD3294F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CCB-836F-4356-9339-7AF8BA67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7B9-E52F-4F2C-ADC7-308E6E59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6D2-8905-4235-9EE8-355A1E1D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ACC-7A9C-4525-8296-6C97E1D5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FF0-A010-4BAF-A0C6-2D4A9D75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513-EDAD-477F-AFB8-08EE90B8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07A-04BD-4C70-9F96-9250A48F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5BA-83F2-455C-8D18-FF179352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8AB-9C10-4070-A9C0-25BEEE47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439-53F9-4912-A377-B49FE8D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F68-B9F9-45A0-860C-ED7F06B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486-DE80-48BF-AA0A-849B94CD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0269-35A2-4612-9135-BA98F1CC3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st Revolution in China, Taiwan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 Tse-tung (or Zedong) led the communists to control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ang Kia-shek and the Nationalists flee to Taiwan and other islands in th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ad diplomatic relations with Taiwan at beginning of conflict but then gave military defense to Taiwan because we wanted a barrier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67080" y="6467400"/>
            <a:ext cx="487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ick J, Alex M, Marissa D, Courtne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15000" y="17524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s republic of China- 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- Mar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- N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wan- Court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7- Chinese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- US gave economic aid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Beijing fell to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Nationalists flee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Chinese establish Peoples Republi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- PRC sign treaty with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 China threatens Nationalists and bombs islands, US steps in and defends, hinting use of nuclear weapons- China bac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638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people think when we hinted to China the use of nuclear weap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0:24Z</dcterms:created>
  <dc:creator>jn12628</dc:creator>
  <dc:description/>
  <dc:language>en-US</dc:language>
  <cp:lastModifiedBy>Brandon Amato</cp:lastModifiedBy>
  <dcterms:modified xsi:type="dcterms:W3CDTF">2012-04-19T14:53:07Z</dcterms:modified>
  <cp:revision>7</cp:revision>
  <dc:subject/>
  <dc:title>Communist Revolution in China, Taiwan Crisis</dc:title>
</cp:coreProperties>
</file>