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1562-F06A-4BDE-8734-0ABD4F19F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CA0D-7EBD-40D3-B794-C568BF278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E1AD-E2B3-4F42-AA29-A7A335F2A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2F9-838F-4FA4-8F47-58CD0A05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28F-CAFA-4E8A-8E08-EAAA9C02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AE7-71A9-4072-87FF-CB604277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258-225C-4CDA-9AD1-1C2130A7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F37-C1FE-41F5-8347-50918332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2CA-70C8-495F-B3DA-82099D41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632-A857-4952-BB4B-28B79EC4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F8A-A816-455E-9295-54D142E9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016-A62B-4A2F-8675-E2E87521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C4F-B14A-485C-8BF0-C2F5CE6E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3BF-5011-4216-BCB6-20827DE5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0F2-ED91-498B-830A-61F0583C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DE46-993A-4113-B71C-7956F28F7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st Revolution in China, Taiwan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038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o Tse-tung (or Zedong) led the communists to control of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ang Kia-shek and the Nationalists flee to Taiwan and other islands in the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had diplomatic relations with Taiwan at beginning of conflict but then gave military defense to Taiwan because we wanted a barrier from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267080" y="6467400"/>
            <a:ext cx="4876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Nick J, Alex M, Marissa D, Courtney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715000" y="1752480"/>
            <a:ext cx="2971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s republic of China- A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- Mar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sm- N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wan- Court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line of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7- Chinese civil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0- US gave economic aid to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Beijing fell to Commun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Nationalists flee to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Chinese establish Peoples Republic of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0- PRC sign treaty with US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4- China threatens Nationalists and bombs islands, US steps in and defends, hinting use of nuclear weapons- China back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09480" y="563868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d people think when we hinted to China the use of nuclear weap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30:24Z</dcterms:created>
  <dc:creator>jn12628</dc:creator>
  <dc:description/>
  <dc:language>en-US</dc:language>
  <cp:lastModifiedBy>Brandon Amato</cp:lastModifiedBy>
  <dcterms:modified xsi:type="dcterms:W3CDTF">2012-04-19T14:53:07Z</dcterms:modified>
  <cp:revision>7</cp:revision>
  <dc:subject/>
  <dc:title>Communist Revolution in China, Taiwan Crisis</dc:title>
</cp:coreProperties>
</file>