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3ADE-9778-4DF4-98E8-9613B63D3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1D8A-B960-457D-8E88-0879380E044E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C9AE-E100-4934-83AF-8EEF98966FD2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87F2-D7A2-4CF6-876A-A41ADDE26953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EB3C-8D65-4589-898B-6CA3E664505A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A048-F36C-4983-9494-C216F09F0E23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A1DE-B15A-4CA8-B78D-6DF6399B03A0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8621-E6CF-47AD-985D-6091D5C8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1E3-364E-4FD3-BCA4-86D93A71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7ED-AE38-47BD-A391-083ADB50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C9B9-F089-4F4B-AB23-82932F5A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A162-833B-4E17-BCAD-54D151F4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8880-1D0A-4B2B-8CEA-3D897CDC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8065-646D-447A-880C-E7BD6103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9FFC-F93C-4CE4-889C-DCC56A59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5938-9809-4BD4-A038-584DA108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E6BE-CDF6-4AAC-A968-9553ABF4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327A-9BBB-4EB3-8552-86B462A6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514-EFD8-48A0-84AC-996994C0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CE10-A9E3-464B-8A56-20D5BF98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2B2D-844B-4F66-AF86-6F5209EA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E684-9672-4677-8007-C0A7DBA1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983B-171F-4081-9621-478D87E1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86F5-CE33-4E34-84F9-3052C20D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1C06-DEC0-4DAA-9A75-ED0D2F7E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875D-70B5-4586-A1F7-1216F3D0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8D5-D02C-4ABB-A590-82F87322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B50-C55F-41CB-98A0-C1E73FBB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A25-A157-4795-AB99-048295CC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8F66-103B-45C5-B29B-D1951691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9F0-9C9C-443A-A134-DF970278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F6F6-2EE0-4E86-8B5E-1F1CCF3D00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5C91-2F4C-4644-88B2-7F466222842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uban Missile Crisis/ Bay of Pigs Inva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Melissa, Liz, Abby, Rosi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5" descr="home_collage3"/>
          <p:cNvPicPr/>
          <p:nvPr/>
        </p:nvPicPr>
        <p:blipFill>
          <a:blip r:embed="rId1"/>
          <a:stretch/>
        </p:blipFill>
        <p:spPr>
          <a:xfrm>
            <a:off x="1752480" y="2133720"/>
            <a:ext cx="5448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ay of Pigs Invasion 4/17-4/19 196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A failed invasion by the USA CIA to invade and overthrow Cuba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plan was made by president Eisenhower and carried out by his successor John F Kennedy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USA wanted to stop Communism right away and Cuba was the closest communist enemy near by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CIA trained anti Castro Cuban Exiles in Miami for invasion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invasion force had 1300 men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90 men were killed while the rest were captured by Castro’s forces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failed plan was a huge humiliation for the JFK administration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ban Missile Crisis Oct 19-28 196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fter the failed invasion by the USA Cuba’s communist leader, Castro, was afraid of another attac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 got in contact with the Soviet Un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oviet Union knew of the USA placing Jupiter missiles in Turkey and didn’t like th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oviet Union then decided to place nuclear Missiles in Cub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USA found the nuclear base and placed a permanent embargo on Cuba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USA discussed with the Soviet Union and both agreed to take their nuclear missiles out of foreign countr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USA shamed Cuba and Castro and cut off all foreign rel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z = Cuba/Fidel Cast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bby = Soviet/ Nikita Khrushchev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elissa = USA/JF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IA member = lucky member of audience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5" descr="Armwrestling"/>
          <p:cNvPicPr/>
          <p:nvPr/>
        </p:nvPicPr>
        <p:blipFill>
          <a:blip r:embed="rId1"/>
          <a:stretch/>
        </p:blipFill>
        <p:spPr>
          <a:xfrm>
            <a:off x="3581280" y="3352680"/>
            <a:ext cx="4572000" cy="32450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ciacoinb"/>
          <p:cNvPicPr/>
          <p:nvPr/>
        </p:nvPicPr>
        <p:blipFill>
          <a:blip r:embed="rId2"/>
          <a:stretch/>
        </p:blipFill>
        <p:spPr>
          <a:xfrm>
            <a:off x="533520" y="3657600"/>
            <a:ext cx="2862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briefing/After Thought on Sk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uba and USSR become friends while USA watches and calls for ac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SA invades Cuba and fai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n USSR puts missiles in Cuba and scares USA. Even though USA has missiles in Turkey near USS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SSR and USA agree to take missiles out of Cuba and Turke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uba is humiliated because they were not involved in the meet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 questions to think abou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y did the USA want to invade Cuba so much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made Castro communis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s Russia still clo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 Cuba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5" descr="wh_cuban_missile"/>
          <p:cNvPicPr/>
          <p:nvPr/>
        </p:nvPicPr>
        <p:blipFill>
          <a:blip r:embed="rId1"/>
          <a:stretch/>
        </p:blipFill>
        <p:spPr>
          <a:xfrm>
            <a:off x="2743200" y="3362400"/>
            <a:ext cx="61722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3:28:14Z</dcterms:created>
  <dc:creator>me16079</dc:creator>
  <dc:description/>
  <dc:language>en-US</dc:language>
  <cp:lastModifiedBy>Brandon Amato</cp:lastModifiedBy>
  <dcterms:modified xsi:type="dcterms:W3CDTF">2012-04-19T14:51:09Z</dcterms:modified>
  <cp:revision>3</cp:revision>
  <dc:subject/>
  <dc:title>Cuban Missile Crisis/ Bay of Pigs Invasion</dc:title>
</cp:coreProperties>
</file>