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2BF1-D1C6-46C4-8699-9C745EC33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EE99-BEC5-40DA-8B7E-0E5B9E7C205D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6F85-BFBA-41B1-996E-761324DED845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38DF-373D-48FC-8779-A3BB2E15D819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94C6-8CB4-4D99-B232-907554D46E85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FC9B-42ED-455F-8580-0C5683440EEF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518C-44CB-4434-BD24-2EF9D3EC7E10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85E-912F-4501-8ED7-6C0A0468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755-F197-4801-AEA2-5565FB19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4A3-06DF-4678-9C3F-8F5D1775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727-42AB-4064-AFB3-1D554A06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60E5-C7DB-4F0B-A8D8-6047210F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EFD3-29F7-44F4-B4CE-2A200729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16EC-E626-481E-9880-8E38C312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D2D2-34E7-485E-80A4-3C7280D1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B1FD-214A-41A6-BEB4-89AA9981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E4AD-473C-4C72-9BD6-0983D706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A51B-6022-462C-9E80-691C94B4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9B2-E9D3-4495-AC9A-F56BDCB1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406D-0F1F-413C-B689-4FCDC64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7D4F-7867-44CC-90A1-67C2E4A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44AE-1C3B-494A-94CD-BAE10B28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A877-F715-4339-B06D-A5025C65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B091-A8DC-49CB-A244-46ABFE2D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CAE-26C8-4AB6-95ED-FA463E6C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BDB-AAA2-42D0-8E3D-4327A861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08A-4A2B-438C-9006-4365D642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87A-332A-4A36-A88B-4B98B314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309-E8B5-456D-8D35-2C70AD8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507-BEB0-4A1D-BFD8-A0162F6F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ED5-B618-4ECC-8E66-C09F9F42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DFE0-9CDD-47E1-AD74-9FF489D95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1D73-CCF8-42B8-8DF7-9AD61D546E6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ban Missile Crisis/ Bay of Pigs Inva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Melissa, Liz, Abby, Rosi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5" descr="home_collage3"/>
          <p:cNvPicPr/>
          <p:nvPr/>
        </p:nvPicPr>
        <p:blipFill>
          <a:blip r:embed="rId1"/>
          <a:stretch/>
        </p:blipFill>
        <p:spPr>
          <a:xfrm>
            <a:off x="1752480" y="2133720"/>
            <a:ext cx="5448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ay of Pigs Invasion 4/17-4/19 196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A failed invasion by the USA CIA to invade and overthrow Cuba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plan was made by president Eisenhower and carried out by his successor John F Kennedy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USA wanted to stop Communism right away and Cuba was the closest communist enemy near by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CIA trained anti Castro Cuban Exiles in Miami for invas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invasion force had 1300 men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90 men were killed while the rest were captured by Castro’s forces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The failed plan was a huge humiliation for the JFK administration.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ban Missile Crisis Oct 19-28 196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fter the failed invasion by the USA Cuba’s communist leader, Castro, was afraid of another attac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e got in contact with the Soviet Un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knew of the USA placing Jupiter missiles in Turkey and didn’t like th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oviet Union then decided to place nuclear Missiles in Cub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found the nuclear base and placed a permanent embargo on Cuba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discussed with the Soviet Union and both agreed to take their nuclear missiles out of foreign countr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USA shamed Cuba and Castro and cut off all foreign rel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z = Cuba/Fidel Cast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bby = Soviet/ Nikita Khrushche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lissa = USA/JF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A member = lucky member of audienc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5" descr="Armwrestling"/>
          <p:cNvPicPr/>
          <p:nvPr/>
        </p:nvPicPr>
        <p:blipFill>
          <a:blip r:embed="rId1"/>
          <a:stretch/>
        </p:blipFill>
        <p:spPr>
          <a:xfrm>
            <a:off x="3581280" y="3352680"/>
            <a:ext cx="4572000" cy="3245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iacoinb"/>
          <p:cNvPicPr/>
          <p:nvPr/>
        </p:nvPicPr>
        <p:blipFill>
          <a:blip r:embed="rId2"/>
          <a:stretch/>
        </p:blipFill>
        <p:spPr>
          <a:xfrm>
            <a:off x="533520" y="3657600"/>
            <a:ext cx="286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briefing/After Thought on Sk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and USSR become friends while USA watches and calls for a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A invades Cuba and fai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n USSR puts missiles in Cuba and scares USA. Even though USA has missiles in Turkey near USS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SSR and USA agree to take missiles out of Cuba and Turke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 is humiliated because they were not involved in the mee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 questions to think abou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did the USA want to invade Cuba so much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made Castro communis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Russia still clo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ith Cuba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wh_cuban_missile"/>
          <p:cNvPicPr/>
          <p:nvPr/>
        </p:nvPicPr>
        <p:blipFill>
          <a:blip r:embed="rId1"/>
          <a:stretch/>
        </p:blipFill>
        <p:spPr>
          <a:xfrm>
            <a:off x="2743200" y="3362400"/>
            <a:ext cx="6172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28:14Z</dcterms:created>
  <dc:creator>me16079</dc:creator>
  <dc:description/>
  <dc:language>en-US</dc:language>
  <cp:lastModifiedBy>Brandon Amato</cp:lastModifiedBy>
  <dcterms:modified xsi:type="dcterms:W3CDTF">2012-04-19T14:51:09Z</dcterms:modified>
  <cp:revision>3</cp:revision>
  <dc:subject/>
  <dc:title>Cuban Missile Crisis/ Bay of Pigs Invasion</dc:title>
</cp:coreProperties>
</file>