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98DB4-8E93-4DC2-891E-F3FD87A9D08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7F0E1-BBB6-4F3D-AF79-C47F71F2ED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B95EE-50B3-4D86-9882-D0C70A76AF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17505-FCF5-4616-8269-34DDA3D43E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3FE79-FFE0-4A9D-8B90-DC59822025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D8BB-6711-433B-A8D5-39C4A2A3D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1F3B-61D9-454A-83B0-BEF04AFBF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AD91-4020-4F99-A316-E5C9FC368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F7D1-3271-499F-B953-FB8DB09C8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22FBF-14F5-414E-99BB-96511C92F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450EE-E2D1-4A43-B2AE-EAC7D271D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6E497-8510-4E26-87A7-A12A7BC21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875A2-D01D-4CC6-8D87-C55ADE6EA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06337-3231-498D-9DFA-609753318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14E7F-4C36-4247-BDE5-5C4F89306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31D9B-8A46-40AB-AEB3-D9A16D035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7743-9B9F-4C27-97C3-9ED730293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DE260-CBF1-460F-AFF5-8595A6F8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79920-DA3C-4676-9FD8-8580F00C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5AD00-D399-4E9D-B410-A6B952A15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5747F-A76D-47AC-AB53-8F23ADC33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F31E7-8DD6-40C2-ACD2-83C5D8E03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0F9EA-BCE0-4707-B7A4-E5D119F37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A8C88-A72D-430E-93E5-3F3BB5386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C0CD6-B51B-45C0-A677-A79EBF7B3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7CFF5-65A0-4204-9B2A-242D8ABF1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0EC61-C297-40E4-AA73-8655DB8AE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175F-95C5-4641-B8C7-838121039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F4FF6-77EC-4CF5-BD4F-B44EA5B78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BB13F-942C-43FD-9661-815D3514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06D97-C9FD-4D98-9D97-E7044B851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D5EBC-AA02-4339-88FE-70FFE985B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1B472-F0AA-4892-BABE-CDBB73CF8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44773-AA79-4FC1-B461-CF1C3EFB4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5A1C9-0EA6-4FB9-9413-0B4E41348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ABCDA-41F7-41B4-A1CC-0DAA556D6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5EA51-4E0C-48AE-A642-69391E081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2E1A7-ADC4-4326-A98C-4566DDBF0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8DAC-2287-499B-BF7B-03CD285EA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12D6C-5C22-40EA-B67D-84E39EF02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7FEE3-1D8C-4F24-A9D3-751FCF7CC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4AE23-1681-45C4-B069-BA72BA3D4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A4777-369D-429A-B63A-48A21294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4CCBA-1BCD-4286-8D2C-631216424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EDADF-64B5-41C7-95F6-EAFB0AEA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45B02-BF9F-4680-9B28-8A3A947B7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EFAB5-FA84-4906-9BDE-27AC531E5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22DA8-C0BE-4385-92E9-254FDA2A4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241FCC-4995-487D-8427-A9FD04F9F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A16D-9468-4CC5-B904-B0F4FBD15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9B263-1B79-46AA-8CD6-163523081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3BE8C-482F-4A97-8740-FC1EA748C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BD2BBE-1DE0-4C51-8300-46DB1554F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3CFA1-B05F-4BE5-83F8-59C957394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1A4807-D336-4C7D-B7EA-064D87AD4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F88B0-3B2C-429A-B09A-403C87C0F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83350-1AF3-4364-B031-256A4F7B2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C89BA-4FA7-467C-ABE4-690CD6FD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B30753-C953-4BD1-8BD8-7F7D60708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F3932-09C4-4BF8-BFC7-6799A3B01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A268-3BDA-4726-978A-E73CE4E5C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81BE8F-F604-4741-A36A-8EEB4428A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21090A-6079-45D9-831B-54AFF5A98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440F20-332A-4670-8DB5-628CC254F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66E502-5E57-4722-B892-AA4CE1612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CF8D7F-2D5C-4581-8FDA-DBEDA6111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057944-336D-4248-A017-FA1516F0F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FE0D06-A19F-4D82-849D-8A5E6B96F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33C5BF-D905-40FF-A5C5-A04E1CEF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329B9E-CA9E-4BD1-B708-3785B46A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3BC2DA-BCC9-438D-AE95-8FFB1107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6DF4-4C78-41D7-801B-1712833C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EAFC53-FC54-4E96-98C5-38B58AB6B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856999-8734-478D-83D0-DE13E5A71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EF40A9-4C1A-4467-9F46-F0C1E2E3F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4A6329-F2A2-4BFE-A6A5-4395B92C5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910734-9502-4F93-8991-013441C27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F735E4-7170-4009-BA15-95BE3B649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6D7416-BB80-4254-A079-E282CEE0F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200BF1-70C8-43B6-9565-B24C5663A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3662BA-10A8-4315-94B4-B3204B8C7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974D7B-CC4A-4224-99CA-9620392A0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9AE0-D42B-45FC-87A5-B18048A51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5FC37A-39E1-4D83-8271-F929266A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6B6696-B3C2-478B-BFBF-CAB607F15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9AF8E2-44AC-460F-AD43-EB9FD2FE0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7AFB51-3E25-4BCF-8BF1-1EA21B9A8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F450FC-A3BC-4CC2-A121-5EF8BFC64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80AC-BEDA-4751-A6AB-57F401726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E1EF1-73B9-4E33-B9AA-33EC49B2B2C8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03390-D8F3-4282-A509-19D2AC09B8F8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2B37B-3718-431A-B2E2-D704FD396C0E}" type="datetime">
              <a:rPr b="0" lang="en-US" sz="1200" spc="-1" strike="noStrike">
                <a:solidFill>
                  <a:srgbClr val="ffffff"/>
                </a:solidFill>
                <a:latin typeface="Corbe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9F0BA-7B7D-46A2-82B0-CA55B69949BD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B73F8-2701-4FF1-A2B6-EB9712979DE8}" type="datetime">
              <a:rPr b="0" lang="en-US" sz="1200" spc="-1" strike="noStrike">
                <a:solidFill>
                  <a:srgbClr val="ffffff"/>
                </a:solidFill>
                <a:latin typeface="Corbe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0FDF4-67A9-4B35-BA52-3EA1E56C435F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CCD55-98D2-4E66-98CE-C55A676ED2E7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62A64-A4FC-41A2-BB97-3814A9CC735D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15A7D-5011-46E6-B09C-53284A9F846B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B85BF-C43B-4EA2-8F64-6487C4B6C5AE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AC976-0EF7-4994-9CFB-00D4EE4C433D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0D5C1-D419-4198-A748-7217690C3A36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04683-0C84-410D-AE90-ECC8B2604FF3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E253D-7F76-44CD-A330-9C024788AA2E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456840" y="1698120"/>
            <a:ext cx="4040280" cy="716040"/>
          </a:xfrm>
          <a:prstGeom prst="rect">
            <a:avLst/>
          </a:prstGeom>
          <a:solidFill>
            <a:srgbClr val="ffffff"/>
          </a:solidFill>
          <a:ln w="47880">
            <a:solidFill>
              <a:srgbClr val="f0ad00"/>
            </a:solidFill>
            <a:miter/>
          </a:ln>
        </p:spPr>
        <p:txBody>
          <a:bodyPr lIns="146160" tIns="91440" anchor="ctr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rbel"/>
              </a:rPr>
              <a:t>BACKGROUND</a:t>
            </a: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6840" y="2403000"/>
            <a:ext cx="4040280" cy="4302360"/>
          </a:xfrm>
          <a:prstGeom prst="rect">
            <a:avLst/>
          </a:prstGeom>
          <a:solidFill>
            <a:srgbClr val="ffffff"/>
          </a:solidFill>
          <a:ln w="47880">
            <a:solidFill>
              <a:srgbClr val="f0ad00"/>
            </a:solidFill>
            <a:miter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rbel"/>
              </a:rPr>
              <a:t>Who?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3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rbel"/>
              </a:rPr>
              <a:t>Egypt, Israel, Britain, France, America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rbel"/>
              </a:rPr>
              <a:t>What?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3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rbel"/>
              </a:rPr>
              <a:t>Britain, France and Israel invaded Egypt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rbel"/>
              </a:rPr>
              <a:t>When?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3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rbel"/>
              </a:rPr>
              <a:t>October 1956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rbel"/>
              </a:rPr>
              <a:t>Where?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3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rbel"/>
              </a:rPr>
              <a:t>Suez Canal/Egypt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rbel"/>
              </a:rPr>
              <a:t>Why?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3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rbel"/>
              </a:rPr>
              <a:t>America and Britain didn’t keep their promise to supply money for the dam which upset Egypt so they took control of the Suez Canal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3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644720" y="1698120"/>
            <a:ext cx="4041720" cy="716040"/>
          </a:xfrm>
          <a:prstGeom prst="rect">
            <a:avLst/>
          </a:prstGeom>
          <a:solidFill>
            <a:srgbClr val="ffffff"/>
          </a:solidFill>
          <a:ln w="47880">
            <a:solidFill>
              <a:srgbClr val="f0ad00"/>
            </a:solidFill>
            <a:miter/>
          </a:ln>
        </p:spPr>
        <p:txBody>
          <a:bodyPr lIns="146160" tIns="91440" anchor="ctr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rbel"/>
              </a:rPr>
              <a:t>SKIT COMPONENTS</a:t>
            </a: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644720" y="2438280"/>
            <a:ext cx="4041720" cy="4267440"/>
          </a:xfrm>
          <a:prstGeom prst="rect">
            <a:avLst/>
          </a:prstGeom>
          <a:solidFill>
            <a:srgbClr val="ffffff"/>
          </a:solidFill>
          <a:ln w="47880">
            <a:solidFill>
              <a:srgbClr val="f0ad00"/>
            </a:solidFill>
            <a:miter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rbel"/>
              </a:rPr>
              <a:t>Our skit explains the crisis through the views of different countries involved. It will mention the alliances and the different events throughout the crisis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rbel"/>
              </a:rPr>
              <a:t>Roles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4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rbel"/>
              </a:rPr>
              <a:t>Nic = France/Britain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4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rbel"/>
              </a:rPr>
              <a:t>Juan = Egypt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4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rbel"/>
              </a:rPr>
              <a:t>Tim = Soviet Union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4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rbel"/>
              </a:rPr>
              <a:t>Amy = America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Text Box 9"/>
          <p:cNvSpPr/>
          <p:nvPr/>
        </p:nvSpPr>
        <p:spPr>
          <a:xfrm>
            <a:off x="228600" y="228600"/>
            <a:ext cx="85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1ad00"/>
                </a:solidFill>
                <a:latin typeface="Corbel"/>
              </a:rPr>
              <a:t>Suez Crisi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Title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6180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456840" y="1698120"/>
            <a:ext cx="4040280" cy="716040"/>
          </a:xfrm>
          <a:prstGeom prst="rect">
            <a:avLst/>
          </a:prstGeom>
          <a:solidFill>
            <a:srgbClr val="ffffff"/>
          </a:solidFill>
          <a:ln w="47880">
            <a:solidFill>
              <a:srgbClr val="f0ad00"/>
            </a:solidFill>
            <a:miter/>
          </a:ln>
        </p:spPr>
        <p:txBody>
          <a:bodyPr lIns="146160" tIns="91440" anchor="ctr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rbel"/>
              </a:rPr>
              <a:t>DEBRIEF</a:t>
            </a: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644720" y="1698120"/>
            <a:ext cx="4041720" cy="716040"/>
          </a:xfrm>
          <a:prstGeom prst="rect">
            <a:avLst/>
          </a:prstGeom>
          <a:solidFill>
            <a:srgbClr val="ffffff"/>
          </a:solidFill>
          <a:ln w="47880">
            <a:solidFill>
              <a:srgbClr val="f0ad00"/>
            </a:solidFill>
            <a:miter/>
          </a:ln>
        </p:spPr>
        <p:txBody>
          <a:bodyPr lIns="146160" tIns="91440" anchor="ctr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rbel"/>
              </a:rPr>
              <a:t>Thinking Like a Historian</a:t>
            </a: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647960" y="2286000"/>
            <a:ext cx="4041720" cy="4302000"/>
          </a:xfrm>
          <a:prstGeom prst="rect">
            <a:avLst/>
          </a:prstGeom>
          <a:solidFill>
            <a:srgbClr val="ffffff"/>
          </a:solidFill>
          <a:ln w="47880">
            <a:solidFill>
              <a:srgbClr val="f0ad00"/>
            </a:solidFill>
            <a:miter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The effect of the aftermath of the Suez Crisis caused the beginning of the end of France and Britain’s empires because of the embarrassment of being defeated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This represents how the Suez Crisis affected the long term outcome for France and Britain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6840" y="2362320"/>
            <a:ext cx="4041720" cy="4302000"/>
          </a:xfrm>
          <a:prstGeom prst="rect">
            <a:avLst/>
          </a:prstGeom>
          <a:solidFill>
            <a:srgbClr val="ffffff"/>
          </a:solidFill>
          <a:ln w="47880">
            <a:solidFill>
              <a:srgbClr val="f0ad00"/>
            </a:solidFill>
            <a:miter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The Suez Canal was very important for trade, especially for Britain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The main cause of the crisis was America and Britain went back on their promise to pay for the dam that Egypt wanted in the Suez Canal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We, the US, didn’t want to get involved because we were angry with Britain/France for invading Egypt and it could get out of control quickly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Title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618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6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3914640" cy="34290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7" descr=""/>
          <p:cNvPicPr/>
          <p:nvPr/>
        </p:nvPicPr>
        <p:blipFill>
          <a:blip r:embed="rId3"/>
          <a:stretch/>
        </p:blipFill>
        <p:spPr>
          <a:xfrm>
            <a:off x="5181480" y="1676520"/>
            <a:ext cx="314640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9T03:46:33Z</dcterms:created>
  <dc:creator>Brandon Amato</dc:creator>
  <dc:description/>
  <dc:language>en-US</dc:language>
  <cp:lastModifiedBy>Brandon Amato</cp:lastModifiedBy>
  <dcterms:modified xsi:type="dcterms:W3CDTF">2012-04-19T15:02:13Z</dcterms:modified>
  <cp:revision>11</cp:revision>
  <dc:subject/>
  <dc:title>NAME OF EVENT(S)</dc:title>
</cp:coreProperties>
</file>