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9030-131A-4B78-B935-E62825EA7D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9C24-AE4B-4898-B2F0-7DB9FCF8C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8523-2BA2-4CE2-BAD6-C4B0696B1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3C35-8D7C-400D-B349-4B6592BE2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D78D-5CF6-412C-998B-F7612CA91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E65-B043-4AD4-9595-7F38209D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BA2-0E7D-4194-9115-5EF85B45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2EF-8FAE-49E8-A547-7CD6D331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51B-EF01-4531-8B0B-5FF8997F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94C1-466E-41DC-9D64-3AD6C6E0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DE66-B903-4365-9966-7E7AD7D0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D608-13F5-46F2-9CAA-18B11BDC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A806-15F1-4280-A7FF-B297C05F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F741-0807-4E4E-8038-C0D03E5E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D18B-A386-4D69-81BA-227BEEA5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CBB4-9C54-44DF-AA57-473BD9D9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A3B-448B-49B8-8414-22518EC2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9A43-B262-449F-81B9-7CF758F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69CB-1ED1-40F1-A549-A53C1230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5308-7255-4D09-8EAF-E5840611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0A73-385B-4818-830A-B0933A59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9530-6A04-4770-8365-2B1ECB97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D94D-B48C-439A-BEAB-0D325BE7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069C-47D9-449F-BC8E-B17A91BD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3FAF-5CC2-423B-B661-E31EE2CC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BCFD-39DE-496F-B920-6F5BA61E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5592-DE1A-41DD-BD74-8DBAAB95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E2E-F02F-4692-9E86-68851899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1A6B6-EF32-4DFC-AC40-89A69A93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8B47-FE7E-4DA9-9852-D9390BB5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6876-4A01-4282-8114-03492A3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1AADF-1741-4CD4-A277-82F1F83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B500-B716-4268-A722-0982A642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F5AF-F6FA-4B98-8E49-49E84862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B8F4-534D-4069-A182-BB71CB5C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0B5DC-63FB-477F-B7D0-D6EA6415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A12B-CB36-4C7D-BC05-70E78B72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5BC1-A5BF-4607-A98D-6E499926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EB7-AE21-43BF-9497-85C6FB3E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4F9B-625C-46BC-BA15-406B125F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2B970-1A8D-4E8C-BCD3-0317F4BA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E238-D17B-4656-AB1D-0C05619F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AAA3-4C8A-47E1-ACAF-D537EC9D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D512-4499-4420-8785-B271B31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1FEE-BAD4-4B60-8485-1EEA0187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D535-7309-40C2-95B1-FB5A2FFD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A6C6-BE57-46D2-858A-C1156D14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57BD-141E-46C1-804B-7FC2ADA3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A625-092A-48DB-A823-21441667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F95-4DE8-4FDB-B263-EE625EC0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53207-DC0A-4939-A61F-15DCDE93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B5E6E-2305-4413-9896-D50EE250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530DA-B30C-4F97-BBAE-04A8A851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F39B9-FD9B-4D21-BF18-D2412902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6218A-E668-4123-A189-E7407B99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FCAB-DBDD-4C0C-BF52-90CDAE0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D0CFF-9537-488C-A062-2839443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B1D69-8211-42F5-B426-2DA31FC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5E2A-EDDD-4F7A-818C-12FEE77B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268D-02B9-43A7-AAFC-1EDE2A71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A4A-2CAE-44BD-86D9-27854ABA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B11C3-3CC4-4971-93D7-46E2FC47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F017C-86E8-4C93-8FC9-B9DF6871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C3203-A9F5-4740-8BF6-A6A59F8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E4AF2-A389-4475-B590-92221624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FEB8F-6875-4824-ABF3-63C996D1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1C3F0-E418-4D46-86B4-9758693A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BFFEC-BE96-4616-AFDF-198275B9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1408-D747-4E36-80F6-FF8F77A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589B7-7161-44F8-9C7F-662D5C3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1464D-48D8-45A4-8141-69FA83CC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9F4-5C5C-44C5-B8DF-3DF3827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20164-1C8E-40E1-A6CA-0E41140F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5A0E0-0460-4D8E-92DB-A0D38335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0F02-1E6D-49DD-80AA-F95A895C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41CE5-0287-410E-9081-62715E21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6F090-03A6-4C91-ACAF-61A5987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DEDEC-9F88-4EC1-9206-0B3D60CD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E7088-727B-45EA-9077-2D4F63D4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4D4D3-A51B-4B45-99E4-DDB070D1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1BC50-3DBD-4E53-8DDE-C28695CF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36136-0C6C-4679-B2D0-94493DD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A66-03C3-4F58-A7CD-4F8DCF8C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ACEC6-D3CF-48E7-B7AB-B1A0BC59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81FAA-E166-4EB9-8977-AE1F6AAC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C76A8-0648-4C57-9BAB-A598E3DB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16577-7EE3-45B5-BB39-8F35DC3A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B9FF0-2262-458E-B8CA-4B0C1010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7BB-607F-443F-AC29-3B4B061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6440-E2DA-41CF-A7FD-117E4B501C9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EEE-8F6E-47DF-B30D-D50CEE66A2A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5655-4C03-4B35-8670-E3034334484F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FF4A-E754-4BC3-8B26-C990AC17FAB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D613-BD92-45DF-AB61-1AB79CAAE064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9F34-59C2-4968-B934-A9CF4A9C8AF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1043-8A0F-410B-9E0A-50012297C9A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7A22-4484-47A9-A8DD-8C3F6B5DFBE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3BD7-479E-48B1-928C-AE77A885419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AF76-70D6-4DDA-B4E9-446EE815D06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7479-5926-44F2-9763-A83106FC4FC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1953-9530-4981-9B58-64B4C194E9E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97DF-7724-42EE-A926-EA1A3A0505D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1806-87F9-4B60-8BC8-8C35DCCB240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BACKGROUN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2403000"/>
            <a:ext cx="4040280" cy="430236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o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Egypt, Israel, Britain, France, Americ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at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Britain, France and Israel invaded Egypt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October 1956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ere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Suez Canal/Egyp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America and Britain didn’t keep their promise to supply money for the dam which upset Egypt so they took control of the Suez Canal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SKIT COMPONENTS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4720" y="2438280"/>
            <a:ext cx="4041720" cy="42674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Our skit explains the crisis through the views of different countries involved. It will mention the alliances and the different events throughout the crisis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Ro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Nic = France/Britai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Juan = Egyp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Tim = Soviet Unio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Amy = Americ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28600" y="2286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1ad00"/>
                </a:solidFill>
                <a:latin typeface="Corbel"/>
              </a:rPr>
              <a:t>Suez Cri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98120"/>
            <a:ext cx="404028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DEBRIEF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14616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Thinking Like a Historian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7960" y="228600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effect of the aftermath of the Suez Crisis caused the beginning of the end of France and Britain’s empires because of the embarrassment of being defeate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s represents how the Suez Crisis affected the long term outcome for France and Britai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362320"/>
            <a:ext cx="4041720" cy="430200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uez Canal was very important for trade, especially for Britain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in cause of the crisis was America and Britain went back on their promise to pay for the dam that Egypt wanted in the Suez Can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e, the US, didn’t want to get involved because we were angry with Britain/France for invading Egypt and it could get out of control quickly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14640" cy="3429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464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3:46:33Z</dcterms:created>
  <dc:creator>Brandon Amato</dc:creator>
  <dc:description/>
  <dc:language>en-US</dc:language>
  <cp:lastModifiedBy>Brandon Amato</cp:lastModifiedBy>
  <dcterms:modified xsi:type="dcterms:W3CDTF">2012-04-19T15:02:13Z</dcterms:modified>
  <cp:revision>11</cp:revision>
  <dc:subject/>
  <dc:title>NAME OF EVENT(S)</dc:title>
</cp:coreProperties>
</file>