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72A3-0947-424A-8E36-627F0F4C8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B91B-48EA-48EE-A61D-A2677FB2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A1AD-3467-4F24-9C54-A54A3464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DD4-718F-4F22-BF07-3AF85903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1CE-2F2B-4579-A6CF-8499CF7A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F39-65DE-4371-9256-EA02D36E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122-5649-4A13-8C43-700EF80E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8D3-1E79-4667-A47A-D494B82C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B87-9177-4D3B-ABFF-F16C7D77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BC7-6B3A-48F6-AD25-BBED4649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09B-91F7-41C2-B9DC-D58AE4CC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932-D9C0-41AF-97A4-ECD1507F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195-E6B5-47FA-AD68-DB01921E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581-53C4-4832-ADC7-F157371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040-B305-4D64-AE44-007CF99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F1C4-7FE2-4BBA-9435-9570DA403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east and west Germany, the Berlin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93640" y="15606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69960" y="156060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1066680"/>
            <a:ext cx="37335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d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.S., France, Great Britain, West Germany, West Berlin VS Soviet Union, East Germany, East 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blockad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8, 1948: Soviet guards halted all passenger trains and traffic to Berlin. June 24, 1948: Soviets severed land and water communications between non-soviet zones and Berlin. June 25, 1948: Easterners stopped supplying food and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airlif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1949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supplied West Berlin with food, medicine, and coal because Stalin put a blockade which prevented any supplies from being moved through East Berlin to West Berlin. Thousands of tons of food, medicine, coal airlifted by airplanes and dropped in West Berl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Wal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 Germany constructed it. Completely cut off West Berlin from East Berlin starting on August 1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96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rved to prevent e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bout 5,000 attempted escapes over wall. -- Death toll 100-2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48320" y="1219320"/>
            <a:ext cx="373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: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d: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on: Ea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: West 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hrough Berlin Blockade, Berlin airlift, and Berlin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41360" y="417600"/>
            <a:ext cx="73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2:05Z</dcterms:created>
  <dc:creator>er14940</dc:creator>
  <dc:description/>
  <dc:language>en-US</dc:language>
  <cp:lastModifiedBy>Brandon Amato</cp:lastModifiedBy>
  <dcterms:modified xsi:type="dcterms:W3CDTF">2012-04-19T14:58:04Z</dcterms:modified>
  <cp:revision>6</cp:revision>
  <dc:subject/>
  <dc:title>Creation of east and west Germany, the Berlin wall</dc:title>
</cp:coreProperties>
</file>