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69C4-2CD7-4A4A-845E-D39CD1DEA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A08A-4ED6-4E43-BE7E-B2175A5AF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6EA2-387A-4540-976F-878742C59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133-171D-4FE3-B35B-D7325156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0D9-A47D-48AE-8F7B-16FFD5AA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F2FE-2418-4435-8C93-461C8DEA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53FF-222F-4779-B5D4-9553E091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7C7-0AA4-486C-B8A1-25EB1F09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2075-B285-47CD-93F2-3F08363B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42AB-47F8-4383-86C6-3B20C1A8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C10-EB42-433A-835B-0FC43070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E1D0-F54F-49C6-BCB3-AB8BEE0F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1F1E-D200-4353-8985-60ABC384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4B40-75A7-4EC1-BCDE-72704502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910B-0873-411A-A10A-176C32CE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D938-FE4A-47E5-87A9-51D9D64EB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on of east and west Germany, the Berlin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93640" y="1560600"/>
            <a:ext cx="4130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69960" y="1560600"/>
            <a:ext cx="359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04920" y="1066680"/>
            <a:ext cx="373356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de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.S., France, Great Britain, West Germany, West Berlin VS Soviet Union, East Germany, East Ber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lin blockade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8, 1948: Soviet guards halted all passenger trains and traffic to Berlin. June 24, 1948: Soviets severed land and water communications between non-soviet zones and Berlin. June 25, 1948: Easterners stopped supplying food and electri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lin airlift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ing 1949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supplied West Berlin with food, medicine, and coal because Stalin put a blockade which prevented any supplies from being moved through East Berlin to West Berlin. Thousands of tons of food, medicine, coal airlifted by airplanes and dropped in West Berl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lin Wall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t Germany constructed it. Completely cut off West Berlin from East Berlin starting on August 1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96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rved to prevent emi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bout 5,000 attempted escapes over wall. -- Death toll 100-2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648320" y="1219320"/>
            <a:ext cx="3733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: U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ed: Soviet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don: East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: West Ber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ing through Berlin Blockade, Berlin airlift, and Berlin w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441360" y="417600"/>
            <a:ext cx="733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3:32:05Z</dcterms:created>
  <dc:creator>er14940</dc:creator>
  <dc:description/>
  <dc:language>en-US</dc:language>
  <cp:lastModifiedBy>Brandon Amato</cp:lastModifiedBy>
  <dcterms:modified xsi:type="dcterms:W3CDTF">2012-04-19T14:58:04Z</dcterms:modified>
  <cp:revision>6</cp:revision>
  <dc:subject/>
  <dc:title>Creation of east and west Germany, the Berlin wall</dc:title>
</cp:coreProperties>
</file>