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D7CB-7180-494D-A90D-749A837EC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0940-CB4F-4F29-9CE0-C49BC6937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10AC-F193-4247-B7C6-BD8991444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6660-3B0B-44D1-AFED-08C43733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CAC-1BF6-49AE-A665-E408F157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1AC-55FC-4EAA-A87A-3A7506D3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99B-66F3-4763-909A-B4CCF165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E8F-672E-46DC-828A-9A0626DF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E866-9C49-41F8-A1F5-1F2FDD70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78C-0130-4FCE-90FE-0207F49E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A402-8673-4C3E-8335-455D61C5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968-076A-4AD6-B1A7-4DA3AD23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2A6-0982-4E09-938E-4524B1BB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8E0-B5FD-461E-AAD6-0D4FE0EC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E9FB-75B7-4023-A0FA-58C308B4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52A7-B9F0-4590-BE9F-B182EBF2C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on of east and west Germany, the Berlin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93640" y="1560600"/>
            <a:ext cx="4130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69960" y="1560600"/>
            <a:ext cx="359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04920" y="1066680"/>
            <a:ext cx="373356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de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.S., France, Great Britain, West Germany, West Berlin VS Soviet Union, East Germany, East Ber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lin blockade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8, 1948: Soviet guards halted all passenger trains and traffic to Berlin. June 24, 1948: Soviets severed land and water communications between non-soviet zones and Berlin. June 25, 1948: Easterners stopped supplying food and electri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lin airlift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ing 1949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supplied West Berlin with food, medicine, and coal because Stalin put a blockade which prevented any supplies from being moved through East Berlin to West Berlin. Thousands of tons of food, medicine, coal airlifted by airplanes and dropped in West Berl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lin Wall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t Germany constructed it. Completely cut off West Berlin from East Berlin starting on August 1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96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rved to prevent emi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bout 5,000 attempted escapes over wall. -- Death toll 100-2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648320" y="1219320"/>
            <a:ext cx="3733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: U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ed: Soviet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don: East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: West Ber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ing through Berlin Blockade, Berlin airlift, and Berlin w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441360" y="417600"/>
            <a:ext cx="733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3:32:05Z</dcterms:created>
  <dc:creator>er14940</dc:creator>
  <dc:description/>
  <dc:language>en-US</dc:language>
  <cp:lastModifiedBy>Brandon Amato</cp:lastModifiedBy>
  <dcterms:modified xsi:type="dcterms:W3CDTF">2012-04-19T14:58:04Z</dcterms:modified>
  <cp:revision>6</cp:revision>
  <dc:subject/>
  <dc:title>Creation of east and west Germany, the Berlin wall</dc:title>
</cp:coreProperties>
</file>