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E7DB-5863-4158-B4D6-A69769B4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A32E-4F19-4361-8F16-03011E44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71D5-E7B5-4C11-A8F1-46F7EA676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145-06F9-4C3E-931C-0A4055C0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825-A337-40BC-921C-6DD9464E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8BA-3F9F-4FF1-8508-F66546B1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A16-4AF7-449C-9F3E-6E7A90A6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97B-1C96-43FB-9AD3-E9D5C20B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429-6404-427A-8BA9-AC4F79FC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D95-0795-4027-BCAC-25900AB4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B80-CB49-43E0-90FD-6EF8F1A3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549-59B5-4EF8-B7C4-9F6A378C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3E3-0DE0-41B0-BAB2-4C170264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C67-44C8-4494-BAA1-BB50303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9FB-BB71-418F-B829-43600AC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2C02-1208-4431-8209-788437380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of east and west Germany, the Berlin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93640" y="1560600"/>
            <a:ext cx="413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69960" y="1560600"/>
            <a:ext cx="359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1066680"/>
            <a:ext cx="37335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d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.S., France, Great Britain, West Germany, West Berlin VS Soviet Union, East Germany, East Ber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blockad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8, 1948: Soviet guards halted all passenger trains and traffic to Berlin. June 24, 1948: Soviets severed land and water communications between non-soviet zones and Berlin. June 25, 1948: Easterners stopped supplying food and electri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airlif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1949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supplied West Berlin with food, medicine, and coal because Stalin put a blockade which prevented any supplies from being moved through East Berlin to West Berlin. Thousands of tons of food, medicine, coal airlifted by airplanes and dropped in West Berl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lin Wal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 Germany constructed it. Completely cut off West Berlin from East Berlin starting on August 1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96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rved to prevent e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bout 5,000 attempted escapes over wall. -- Death toll 100-2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48320" y="1219320"/>
            <a:ext cx="3733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: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d: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on: Ea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: West Ber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ing through Berlin Blockade, Berlin airlift, and Berlin w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41360" y="417600"/>
            <a:ext cx="73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2:05Z</dcterms:created>
  <dc:creator>er14940</dc:creator>
  <dc:description/>
  <dc:language>en-US</dc:language>
  <cp:lastModifiedBy>Brandon Amato</cp:lastModifiedBy>
  <dcterms:modified xsi:type="dcterms:W3CDTF">2012-04-19T14:58:04Z</dcterms:modified>
  <cp:revision>6</cp:revision>
  <dc:subject/>
  <dc:title>Creation of east and west Germany, the Berlin wall</dc:title>
</cp:coreProperties>
</file>