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9419B-ECB7-4267-A549-1C5AC6B97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3C354-5A2B-4647-8408-22E0CE7C2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3235C-423F-4E83-A143-3D7424D71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BF5C-053F-4F6F-AD7B-B40445870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01E8-956F-4CAF-998E-93DC0C685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3100-963B-458C-9733-F6DBF735D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9DC2-3894-40E9-9C1A-F02E300F6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289B-2CE1-4206-9076-E79071A00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E828-6890-49CC-B7A5-55F2DF7B1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18FF-7F1B-433F-9C06-46B61535B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0893-4B0B-4164-B5D1-D62178F75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7A81-92DC-42BF-8580-1E10E7C4B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BEFB-B1CE-4C10-8F31-AA8F95B6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4715-B55A-465D-BD6A-5E2750F2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E3C1-59B7-4E71-8533-93DBA7D7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F2474-E5F6-459B-9A98-82B6A706C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unist Revolution in China, Taiwan Cri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0388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o Tse-tung (or Zedong) led the communists to control of Chi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ang Kia-shek and the Nationalists flee to Taiwan and other islands in the reg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 had diplomatic relations with Taiwan at beginning of conflict but then gave military defense to Taiwan because we wanted a barrier from Commu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4267080" y="6467400"/>
            <a:ext cx="4876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Nick J, Alex M, Marissa D, Courtney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5715000" y="1752480"/>
            <a:ext cx="29718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oples republic of China- A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- Maris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sm- N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iwan- Court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line of ev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27- Chinese civil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40- US gave economic aid to Taiw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49- Beijing fell to Commun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49- Nationalists flee to Taiw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49- Chinese establish Peoples Republic of 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50- PRC sign treaty with USS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54- China threatens Nationalists and bombs islands, US steps in and defends, hinting use of nuclear weapons- China backs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609480" y="5638680"/>
            <a:ext cx="815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id people think when we hinted to China the use of nuclear weapo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13:30:24Z</dcterms:created>
  <dc:creator>jn12628</dc:creator>
  <dc:description/>
  <dc:language>en-US</dc:language>
  <cp:lastModifiedBy>Brandon Amato</cp:lastModifiedBy>
  <dcterms:modified xsi:type="dcterms:W3CDTF">2012-04-19T14:53:07Z</dcterms:modified>
  <cp:revision>7</cp:revision>
  <dc:subject/>
  <dc:title>Communist Revolution in China, Taiwan Crisis</dc:title>
</cp:coreProperties>
</file>