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69EB8-CECA-47AD-802B-29C13B176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9354E-EBB1-448F-8F13-F97BD7637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D8CFC-FB60-4E81-A18F-53FC5D793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D05B-9D16-429A-BFDB-565BB9EB5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377E-07CC-4A58-BEA9-BBAA16847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C05D-E67A-48B6-AD17-C429D77C0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43A7-500E-4EDE-824B-429DDE74E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2779-6C23-47B4-A3E2-18C8861BE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0320-7DE9-4DAE-A380-DBEC07074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9A27-1278-4702-9751-4BC1A90F2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2B33-A917-4584-84D2-6AFB2AA2B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6ECE-2E5E-4FB1-987A-6C5F4481F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9F40-A6E7-45D3-AD16-049CD926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4036-6773-46F3-9237-8F5ADD1D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5D31-61E5-43FD-B0EC-04A1DB1B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F7AA1-DF26-47FE-BA20-B4E396EC8E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unist Revolution in China, Taiwan Cri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0388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o Tse-tung (or Zedong) led the communists to control of Chi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ang Kia-shek and the Nationalists flee to Taiwan and other islands in the reg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 had diplomatic relations with Taiwan at beginning of conflict but then gave military defense to Taiwan because we wanted a barrier from Commu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4267080" y="6467400"/>
            <a:ext cx="4876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Nick J, Alex M, Marissa D, Courtney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5715000" y="1752480"/>
            <a:ext cx="29718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oples republic of China- A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- Maris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sm- N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iwan- Court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line of ev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27- Chinese civil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40- US gave economic aid to Taiw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49- Beijing fell to Commun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49- Nationalists flee to Taiw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49- Chinese establish Peoples Republic of 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50- PRC sign treaty with USS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54- China threatens Nationalists and bombs islands, US steps in and defends, hinting use of nuclear weapons- China backs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609480" y="5638680"/>
            <a:ext cx="815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id people think when we hinted to China the use of nuclear weap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13:30:24Z</dcterms:created>
  <dc:creator>jn12628</dc:creator>
  <dc:description/>
  <dc:language>en-US</dc:language>
  <cp:lastModifiedBy>Brandon Amato</cp:lastModifiedBy>
  <dcterms:modified xsi:type="dcterms:W3CDTF">2012-04-19T14:53:07Z</dcterms:modified>
  <cp:revision>7</cp:revision>
  <dc:subject/>
  <dc:title>Communist Revolution in China, Taiwan Crisis</dc:title>
</cp:coreProperties>
</file>