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A0EF-AD97-4C3A-BF15-FE24DFF1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C5D0-02F5-4EFC-A3F5-2E22DF2BD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DB9D-8987-4D50-9FF1-69A5D1103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6CD-FCD3-416C-B8AA-47A03A17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998-B2A8-452B-AE3F-DDC4ECD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E79-6B77-4909-93FE-6EA97566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B20-1BCE-4536-AF96-A04603BC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EA2-9E7E-4130-B411-33AA41E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D71-83AF-48E0-B1E5-C7BE1DBF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357-71E3-4DDE-B144-E101AB3D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903-44DF-4354-8A98-8746897B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AF6-B572-4C85-8F21-B31CD835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B81-3A41-4DA6-94A6-11A5393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F2F-13EA-418A-BB0C-78C3795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0A4-9AD0-4BD0-96E5-AAEE8DF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C7D-C650-441D-8824-D04C84C84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st Revolution in China, Taiwan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 Tse-tung (or Zedong) led the communists to control of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ang Kia-shek and the Nationalists flee to Taiwan and other islands in th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had diplomatic relations with Taiwan at beginning of conflict but then gave military defense to Taiwan because we wanted a barrier from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67080" y="6467400"/>
            <a:ext cx="487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ick J, Alex M, Marissa D, Courtney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15000" y="1752480"/>
            <a:ext cx="297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s republic of China- A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- Mar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- N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wan- Court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of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7- Chinese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0- US gave economic aid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Beijing fell to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Nationalists flee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Chinese establish Peoples Republic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- PRC sign treaty with 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4- China threatens Nationalists and bombs islands, US steps in and defends, hinting use of nuclear weapons- China bac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9480" y="56386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people think when we hinted to China the use of nuclear weap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0:24Z</dcterms:created>
  <dc:creator>jn12628</dc:creator>
  <dc:description/>
  <dc:language>en-US</dc:language>
  <cp:lastModifiedBy>Brandon Amato</cp:lastModifiedBy>
  <dcterms:modified xsi:type="dcterms:W3CDTF">2012-04-19T14:53:07Z</dcterms:modified>
  <cp:revision>7</cp:revision>
  <dc:subject/>
  <dc:title>Communist Revolution in China, Taiwan Crisis</dc:title>
</cp:coreProperties>
</file>