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3CE7-5B17-4F5E-99A9-55C07CFBE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C4BA-2E9D-4D07-AB98-65193AD77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79CC-ED90-4A7B-935E-CD44B831B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E35-2D89-4BD9-A8E3-F8096A75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A551-A317-4B41-A3AE-BBB528DB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60C-97A2-440D-BE77-CAB26443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6DA-13CE-457B-B775-297A80A4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265-10D7-41BE-A39B-E02BF0CD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27D-6E9E-4E6B-9D22-4696ED18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6A3-859F-4EBE-9F42-46645DB7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478-7114-48C6-ADC8-CA6C64A6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19E-EE70-49CD-900F-8D8219C3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262C-403D-4136-8E67-B22D8392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287-CAF2-43D6-AB8C-A056CD03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A8B-6976-4FFB-90B0-59442EFF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BA29-F830-4CA0-BDD6-14DB82C29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st Revolution in China, Taiwan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038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o Tse-tung (or Zedong) led the communists to control of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ang Kia-shek and the Nationalists flee to Taiwan and other islands in the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had diplomatic relations with Taiwan at beginning of conflict but then gave military defense to Taiwan because we wanted a barrier from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267080" y="6467400"/>
            <a:ext cx="4876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Nick J, Alex M, Marissa D, Courtney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715000" y="1752480"/>
            <a:ext cx="2971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s republic of China- A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- Mar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sm- N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wan- Court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line of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7- Chinese civil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0- US gave economic aid to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9- Beijing fell to Commun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9- Nationalists flee to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9- Chinese establish Peoples Republic of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0- PRC sign treaty with US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4- China threatens Nationalists and bombs islands, US steps in and defends, hinting use of nuclear weapons- China back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09480" y="563868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d people think when we hinted to China the use of nuclear weap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3:30:24Z</dcterms:created>
  <dc:creator>jn12628</dc:creator>
  <dc:description/>
  <dc:language>en-US</dc:language>
  <cp:lastModifiedBy>Brandon Amato</cp:lastModifiedBy>
  <dcterms:modified xsi:type="dcterms:W3CDTF">2012-04-19T14:53:07Z</dcterms:modified>
  <cp:revision>7</cp:revision>
  <dc:subject/>
  <dc:title>Communist Revolution in China, Taiwan Crisis</dc:title>
</cp:coreProperties>
</file>