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578F9-8E9D-41F8-B80C-AC4EB63D50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72951-A0A7-4A22-A227-4EF658BE19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ldImg"/>
          </p:nvPr>
        </p:nvSpPr>
        <p:spPr>
          <a:xfrm>
            <a:off x="1143000" y="685800"/>
            <a:ext cx="4572000" cy="3429000"/>
          </a:xfrm>
          <a:prstGeom prst="rect">
            <a:avLst/>
          </a:prstGeom>
          <a:ln w="0">
            <a:noFill/>
          </a:ln>
        </p:spPr>
      </p:sp>
      <p:sp>
        <p:nvSpPr>
          <p:cNvPr id="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03D8A-7EF0-48C0-ACAB-083EAED97B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D699E-E5DC-4BDD-8E5F-ACEF3706FF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01951-7C45-41B2-BA10-33B36A158F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239E8-5020-466E-AB8E-7B1016A1C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25C9C-95CD-4931-9C3A-D30AF8B70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F28C98-3CE3-4240-B91B-AB30B21A8D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4DFA2F-A6A6-4518-A5F8-B2CC493E7A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E4D7A-5A23-49B0-8EA6-750AA3439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AEE82-940A-4FA3-B88F-2E8F71798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4C2D1-C22E-429C-833F-FA807E226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67E96-786C-4653-AFFE-F11C054B0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41F75-9EBC-4D4F-8580-10CDA1E58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5CFF6-B637-44D8-B13F-BA279287A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05C7C-819D-4BBC-BDB8-266581252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152CB-3AF7-4B42-BB77-E666D8AD29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FC5EC-0460-4DD9-A427-88AB71225E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ert Operation in Iran and Guatemala</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Hui C., Andy E., B.J., and Brett 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up d’etat is created by Guatemalan in 1954. It was the CIA covert operation that deposed President Jacobo Arbenz Guzman, with paramilitary invasion by an anti-Communist that called army of liber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IA is a civilian intelligence agency of the U.S. government. It is an executive agency and reports directly to the Nation’s Director. They also take the request from the President of the U.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 Promote/Support the overthrow of a foreign government is because the foreign governments are trying to destroy the trade with other countries or taking advantage on the citizens company. (ex. In Iran, government Mossadegh was threatening the profits of the Anglo-Iranian Oil Company. The problem was found by a member of CIA that works with the British governmen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 government thinks that the government in the foreign country wasn’t traded citizens in the wrong way. They think that the communism is also the problem in the country. So, they think that they should help to stop the communism government and let them trade the citizens of the foreign country in the right way.</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kit Component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J = anti-communist citiz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y = communist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tt = Presid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i =C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ning of the Skit</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s of both countries were trying to taking advantage on the citizens. CIA saw the problem and report back to the U.S. Nation director and got permission from the U.S. President to overthrow the foreign gover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7T13:26:28Z</dcterms:created>
  <dc:creator>ch23837</dc:creator>
  <dc:description/>
  <dc:language>en-US</dc:language>
  <cp:lastModifiedBy>Brandon Amato</cp:lastModifiedBy>
  <dcterms:modified xsi:type="dcterms:W3CDTF">2012-04-19T15:01:39Z</dcterms:modified>
  <cp:revision>3</cp:revision>
  <dc:subject/>
  <dc:title>Covert Operation in Iran and Guatemala</dc:title>
</cp:coreProperties>
</file>