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B86-7865-4CED-BC95-12B117E3F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0B6-F6C9-475F-90D6-5D32F75F7D68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BD05-64C5-4928-BBE7-A3090099BFF4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CD0C-7B4F-4809-A7BE-75E4BC888976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4375-459C-4F36-B447-47577CCC52D3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8E23-DBC8-4895-B493-751EA10CB3B8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9411-5A5A-4526-B365-06304F057E4A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52E-3A7B-422E-89E6-BFA9315A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C33-32EC-4878-8B44-CA640081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1BC-C04F-477E-A8AC-9FE123E6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2B5-E332-43BC-8BC4-44BB397A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0881-3DAC-45F6-AB6A-6B20D6D8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7193-BF98-4F67-BA42-404D29BD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745-DDD9-4B35-8FB6-D623315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6E3C-8698-48C6-841D-144B103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592D-461E-4B78-A373-115EFC38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90DF-3C04-4985-9B73-1712178D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F4CB-3EB4-4D34-847A-BE8CD58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B41-F52D-4A31-A0F9-CA8371E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7F81-CADA-48B1-8638-CCF7C86D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0780-02E2-431E-9A7C-2C71827C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EEAC-F429-4041-9920-4642D717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4D6-5989-4D3C-9C13-D4FDE503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F0F2-0112-497A-A68C-79EB0A48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5C8-8AF5-4D78-A5E0-9513D4C2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3B2-239F-4DF1-8D85-82040994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5A4-05E3-4C08-94F2-C26713FB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F79-CD25-449A-B9E9-E9A751D5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46C-FCBA-420F-A357-4EEC2D4E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C7F-73E2-4998-AEB2-6F12E3F9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760-A1E5-4595-87D1-C665D22E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94C8-0A28-4991-AF8A-FA8C75FF5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A03B-98BB-4004-AF64-0BE07623B11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ban Missile Crisis/ Bay of Pigs Inva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Melissa, Liz, Abby, Rosi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5" descr="home_collage3"/>
          <p:cNvPicPr/>
          <p:nvPr/>
        </p:nvPicPr>
        <p:blipFill>
          <a:blip r:embed="rId1"/>
          <a:stretch/>
        </p:blipFill>
        <p:spPr>
          <a:xfrm>
            <a:off x="1752480" y="2133720"/>
            <a:ext cx="5448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ay of Pigs Invasion 4/17-4/19 196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A failed invasion by the USA CIA to invade and overthrow Cuba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plan was made by president Eisenhower and carried out by his successor John F Kennedy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USA wanted to stop Communism right away and Cuba was the closest communist enemy near by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CIA trained anti Castro Cuban Exiles in Miami for invas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invasion force had 1300 men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90 men were killed while the rest were captured by Castro’s forces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failed plan was a huge humiliation for the JFK administrat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ban Missile Crisis Oct 19-28 196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fter the failed invasion by the USA Cuba’s communist leader, Castro, was afraid of another attac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got in contact with the Soviet Un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knew of the USA placing Jupiter missiles in Turkey and didn’t like th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then decided to place nuclear Missiles in Cub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found the nuclear base and placed a permanent embargo on Cub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discussed with the Soviet Union and both agreed to take their nuclear missiles out of foreign count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shamed Cuba and Castro and cut off all foreign rel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z = Cuba/Fidel Cast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bby = Soviet/ Nikita Khrushche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lissa = USA/JF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A member = lucky member of audienc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5" descr="Armwrestling"/>
          <p:cNvPicPr/>
          <p:nvPr/>
        </p:nvPicPr>
        <p:blipFill>
          <a:blip r:embed="rId1"/>
          <a:stretch/>
        </p:blipFill>
        <p:spPr>
          <a:xfrm>
            <a:off x="3581280" y="3352680"/>
            <a:ext cx="4572000" cy="3245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iacoinb"/>
          <p:cNvPicPr/>
          <p:nvPr/>
        </p:nvPicPr>
        <p:blipFill>
          <a:blip r:embed="rId2"/>
          <a:stretch/>
        </p:blipFill>
        <p:spPr>
          <a:xfrm>
            <a:off x="533520" y="3657600"/>
            <a:ext cx="286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briefing/After Thought on 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and USSR become friends while USA watches and calls for a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A invades Cuba and fai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n USSR puts missiles in Cuba and scares USA. Even though USA has missiles in Turkey near USS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SR and USA agree to take missiles out of Cuba and Turk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is humiliated because they were not involved in the mee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questions to think abo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id the USA want to invade Cuba so much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made Castro communis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Russia still clo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Cuba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wh_cuban_missile"/>
          <p:cNvPicPr/>
          <p:nvPr/>
        </p:nvPicPr>
        <p:blipFill>
          <a:blip r:embed="rId1"/>
          <a:stretch/>
        </p:blipFill>
        <p:spPr>
          <a:xfrm>
            <a:off x="2743200" y="3362400"/>
            <a:ext cx="6172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28:14Z</dcterms:created>
  <dc:creator>me16079</dc:creator>
  <dc:description/>
  <dc:language>en-US</dc:language>
  <cp:lastModifiedBy>Brandon Amato</cp:lastModifiedBy>
  <dcterms:modified xsi:type="dcterms:W3CDTF">2012-04-19T14:51:09Z</dcterms:modified>
  <cp:revision>3</cp:revision>
  <dc:subject/>
  <dc:title>Cuban Missile Crisis/ Bay of Pigs Invasion</dc:title>
</cp:coreProperties>
</file>