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36BA-B07C-4D31-A376-7A3AAC0C3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1700-1B40-479B-9F2D-5E7982C7D6E1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3786-9CF4-431A-9ADD-3F75264912F4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BC6C-59EA-42EB-8403-277E2108A57D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74CD-380B-48A4-B935-EC2214996182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3BDC-A394-48BA-8B25-00110D985150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A238-9E88-441F-8973-42B0ED9F4CEF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FC0-0943-44A4-8FBD-1E0F4F75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96C-0536-4C94-92A2-90A4CFFB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8AB-8769-407A-AF5C-84C6E3AE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4A7-2DB5-4D82-B2D3-460CF167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4BA9-7E2A-43B7-8B4D-9BF5DFF6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A6B4-E1C1-44EF-8C6F-D837492B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E1BA-09A0-421C-9989-545C3682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626D-5322-4631-98BD-ED77B7BB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B69B-B70C-4BFD-9C96-9A01C8A3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EB29-9EE7-4BAB-812C-3CE3BCCD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66F4-4A34-4418-A3A3-ADCBAF6B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6BA-E8F4-4348-89BF-0338332B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6AC2-E505-44C6-A945-6BEABDA7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656B-8BAB-4E04-B08B-82FDDE05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1667-1154-42EC-8612-C325B59E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C51A-FA58-41E0-8F65-34229DC1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2750-DC7F-49BC-8790-CA29B02D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65E5-5107-4ACD-A905-62101A18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586-05B9-479B-8365-AFC1876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5F8-9F62-4943-AD93-224F12CB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F6A-8C6D-4705-9E80-F21A10AD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0A0-7AA1-4F56-B9A7-3A060443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64B-08B8-4512-B108-23F8308D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394-C12C-4852-88DA-FC78C20F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5299-5DBD-4CA4-AAA2-FFD5652AF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D85E-5537-45BE-88AB-B35FD8CB0E8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ban Missile Crisis/ Bay of Pigs Inva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Melissa, Liz, Abby, Rosi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5" descr="home_collage3"/>
          <p:cNvPicPr/>
          <p:nvPr/>
        </p:nvPicPr>
        <p:blipFill>
          <a:blip r:embed="rId1"/>
          <a:stretch/>
        </p:blipFill>
        <p:spPr>
          <a:xfrm>
            <a:off x="1752480" y="2133720"/>
            <a:ext cx="5448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ay of Pigs Invasion 4/17-4/19 196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A failed invasion by the USA CIA to invade and overthrow Cuba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plan was made by president Eisenhower and carried out by his successor John F Kennedy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USA wanted to stop Communism right away and Cuba was the closest communist enemy near by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CIA trained anti Castro Cuban Exiles in Miami for invasion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invasion force had 1300 men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90 men were killed while the rest were captured by Castro’s forces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failed plan was a huge humiliation for the JFK administration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ban Missile Crisis Oct 19-28 196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fter the failed invasion by the USA Cuba’s communist leader, Castro, was afraid of another attac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got in contact with the Soviet Un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oviet Union knew of the USA placing Jupiter missiles in Turkey and didn’t like th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oviet Union then decided to place nuclear Missiles in Cub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found the nuclear base and placed a permanent embargo on Cub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discussed with the Soviet Union and both agreed to take their nuclear missiles out of foreign count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shamed Cuba and Castro and cut off all foreign rel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z = Cuba/Fidel Cast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bby = Soviet/ Nikita Khrushche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lissa = USA/JF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A member = lucky member of audience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5" descr="Armwrestling"/>
          <p:cNvPicPr/>
          <p:nvPr/>
        </p:nvPicPr>
        <p:blipFill>
          <a:blip r:embed="rId1"/>
          <a:stretch/>
        </p:blipFill>
        <p:spPr>
          <a:xfrm>
            <a:off x="3581280" y="3352680"/>
            <a:ext cx="4572000" cy="3245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iacoinb"/>
          <p:cNvPicPr/>
          <p:nvPr/>
        </p:nvPicPr>
        <p:blipFill>
          <a:blip r:embed="rId2"/>
          <a:stretch/>
        </p:blipFill>
        <p:spPr>
          <a:xfrm>
            <a:off x="533520" y="3657600"/>
            <a:ext cx="286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briefing/After Thought on Sk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 and USSR become friends while USA watches and calls for ac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A invades Cuba and fai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n USSR puts missiles in Cuba and scares USA. Even though USA has missiles in Turkey near USS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SR and USA agree to take missiles out of Cuba and Turke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 is humiliated because they were not involved in the meet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 questions to think abou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did the USA want to invade Cuba so much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made Castro communis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Russia still clo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Cuba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5" descr="wh_cuban_missile"/>
          <p:cNvPicPr/>
          <p:nvPr/>
        </p:nvPicPr>
        <p:blipFill>
          <a:blip r:embed="rId1"/>
          <a:stretch/>
        </p:blipFill>
        <p:spPr>
          <a:xfrm>
            <a:off x="2743200" y="3362400"/>
            <a:ext cx="6172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28:14Z</dcterms:created>
  <dc:creator>me16079</dc:creator>
  <dc:description/>
  <dc:language>en-US</dc:language>
  <cp:lastModifiedBy>Brandon Amato</cp:lastModifiedBy>
  <dcterms:modified xsi:type="dcterms:W3CDTF">2012-04-19T14:51:09Z</dcterms:modified>
  <cp:revision>3</cp:revision>
  <dc:subject/>
  <dc:title>Cuban Missile Crisis/ Bay of Pigs Invasion</dc:title>
</cp:coreProperties>
</file>