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02F8-583F-4291-A5E4-6A0D01CEC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F169-0503-45C0-B9FE-A84261393DDC}" type="slidenum">
              <a:rPr b="0" lang="en-US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7082-DFF5-4693-9B02-F1145E00F09A}" type="slidenum">
              <a:rPr b="0" lang="en-US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5390-BAE0-4C0F-B08A-FAC2520EA6A1}" type="slidenum">
              <a:rPr b="0" lang="en-US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C465-933F-440B-9114-2220D5D365DB}" type="slidenum">
              <a:rPr b="0" lang="en-US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F2C8-E089-4C91-9541-B6D9F08C9A44}" type="slidenum">
              <a:rPr b="0" lang="en-US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D097-9994-46F6-9A43-EBF35AED523A}" type="slidenum">
              <a:rPr b="0" lang="en-US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AFF4-24F8-4265-9233-616404DC9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130C-02DF-4BCA-BEA3-AB80CAE4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FE3D-F106-440C-8859-A3A34C438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2BC2-0426-4232-B0EE-B0D368665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F05B-CDCD-4F72-8639-611680EA8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D66E-EEBE-423C-AF42-2920C595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CD2F-A914-4F0B-8885-98CBF116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48ED-CDC3-4591-B928-57272976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252D-772F-4FD5-A1AD-D64CB915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5653-9E1B-4D91-8FD2-D22F751D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CA25F-AB34-4209-B4F3-0D68011A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0041-5DAB-44F1-8EAB-D59367DC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3056-16C1-49A0-8773-CBC7338B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62BB-5B66-4B71-A439-3B745B86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5AA6-EE9E-4CF9-A71A-3FA2EFEF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F97D-AC4C-432D-B671-D7926673E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4BA4-EC14-45A3-9742-DBFEA8673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A2B2-06A6-40AF-9F01-08799662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CC6C-1860-40D7-84F8-BD0FD53C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20C8-3BBE-46E9-9043-09A3B705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4BA1-EB6E-4740-A3DE-9B5F6A89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74BF-958F-412F-864D-B0595F1F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8CF0-E051-4DAD-A076-594A9B09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5629-E7BA-4DB2-B3A6-5BFEFA7F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>
                      <a:gd name="textAreaLeft" fmla="*/ 0 w 884520"/>
                      <a:gd name="textAreaRight" fmla="*/ 884880 w 88452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>
                      <a:gd name="textAreaLeft" fmla="*/ 0 w 931320"/>
                      <a:gd name="textAreaRight" fmla="*/ 93168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>
                      <a:gd name="textAreaLeft" fmla="*/ 0 w 499680"/>
                      <a:gd name="textAreaRight" fmla="*/ 500040 w 49968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>
                      <a:gd name="textAreaLeft" fmla="*/ 0 w 890280"/>
                      <a:gd name="textAreaRight" fmla="*/ 89064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>
                      <a:gd name="textAreaLeft" fmla="*/ 0 w 478080"/>
                      <a:gd name="textAreaRight" fmla="*/ 47844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>
                      <a:gd name="textAreaLeft" fmla="*/ 0 w 461880"/>
                      <a:gd name="textAreaRight" fmla="*/ 462240 w 46188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>
                      <a:gd name="textAreaLeft" fmla="*/ 0 w 792720"/>
                      <a:gd name="textAreaRight" fmla="*/ 793080 w 79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>
                      <a:gd name="textAreaLeft" fmla="*/ 0 w 425880"/>
                      <a:gd name="textAreaRight" fmla="*/ 426240 w 4258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>
                      <a:gd name="textAreaLeft" fmla="*/ 0 w 386640"/>
                      <a:gd name="textAreaRight" fmla="*/ 387000 w 38664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>
                      <a:gd name="textAreaLeft" fmla="*/ -360 w 931320"/>
                      <a:gd name="textAreaRight" fmla="*/ 93132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>
                      <a:gd name="textAreaLeft" fmla="*/ 360 w 890640"/>
                      <a:gd name="textAreaRight" fmla="*/ 891360 w 8906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>
                      <a:gd name="textAreaLeft" fmla="*/ 360 w 478080"/>
                      <a:gd name="textAreaRight" fmla="*/ 47880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>
                      <a:gd name="textAreaLeft" fmla="*/ -360 w 461880"/>
                      <a:gd name="textAreaRight" fmla="*/ 461880 w 46188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>
                      <a:gd name="textAreaLeft" fmla="*/ -360 w 792360"/>
                      <a:gd name="textAreaRight" fmla="*/ 792360 w 79236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>
                      <a:gd name="textAreaLeft" fmla="*/ 360 w 425520"/>
                      <a:gd name="textAreaRight" fmla="*/ 426240 w 4255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>
                      <a:gd name="textAreaLeft" fmla="*/ -360 w 387000"/>
                      <a:gd name="textAreaRight" fmla="*/ 387000 w 38700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>
                      <a:gd name="textAreaLeft" fmla="*/ 360 w 632160"/>
                      <a:gd name="textAreaRight" fmla="*/ 632880 w 6321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>
                      <a:gd name="textAreaLeft" fmla="*/ -360 w 641880"/>
                      <a:gd name="textAreaRight" fmla="*/ 641880 w 64188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>
                      <a:gd name="textAreaLeft" fmla="*/ 0 w 345240"/>
                      <a:gd name="textAreaRight" fmla="*/ 345240 w 3452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>
                      <a:gd name="textAreaLeft" fmla="*/ -360 w 303480"/>
                      <a:gd name="textAreaRight" fmla="*/ 303480 w 30348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>
                      <a:gd name="textAreaLeft" fmla="*/ 360 w 292320"/>
                      <a:gd name="textAreaRight" fmla="*/ 293040 w 29232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>
                      <a:gd name="textAreaLeft" fmla="*/ 0 w 632160"/>
                      <a:gd name="textAreaRight" fmla="*/ 632520 w 6321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>
                    <a:gd name="textAreaLeft" fmla="*/ 360 w 282240"/>
                    <a:gd name="textAreaRight" fmla="*/ 282960 w 28224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>
                      <a:gd name="textAreaLeft" fmla="*/ 0 w 545040"/>
                      <a:gd name="textAreaRight" fmla="*/ 545400 w 545040"/>
                      <a:gd name="textAreaTop" fmla="*/ 0 h 94320"/>
                      <a:gd name="textAreaBottom" fmla="*/ 94680 h 943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148320"/>
                      <a:gd name="textAreaBottom" fmla="*/ 148680 h 1483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>
                      <a:gd name="textAreaLeft" fmla="*/ 0 w 592560"/>
                      <a:gd name="textAreaRight" fmla="*/ 592920 w 59256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>
                      <a:gd name="textAreaLeft" fmla="*/ 0 w 317880"/>
                      <a:gd name="textAreaRight" fmla="*/ 318240 w 31788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>
                      <a:gd name="textAreaLeft" fmla="*/ 0 w 488880"/>
                      <a:gd name="textAreaRight" fmla="*/ 489240 w 488880"/>
                      <a:gd name="textAreaTop" fmla="*/ 0 h 43920"/>
                      <a:gd name="textAreaBottom" fmla="*/ 44280 h 43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>
                      <a:gd name="textAreaLeft" fmla="*/ 0 w 262440"/>
                      <a:gd name="textAreaRight" fmla="*/ 262800 w 26244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>
                      <a:gd name="textAreaLeft" fmla="*/ 360 w 884160"/>
                      <a:gd name="textAreaRight" fmla="*/ 88488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>
                      <a:gd name="textAreaLeft" fmla="*/ -360 w 474120"/>
                      <a:gd name="textAreaRight" fmla="*/ 474120 w 47412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>
                      <a:gd name="textAreaLeft" fmla="*/ -360 w 818280"/>
                      <a:gd name="textAreaRight" fmla="*/ 818280 w 8182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>
                      <a:gd name="textAreaLeft" fmla="*/ 360 w 439200"/>
                      <a:gd name="textAreaRight" fmla="*/ 439920 w 43920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>
                      <a:gd name="textAreaLeft" fmla="*/ -360 w 785160"/>
                      <a:gd name="textAreaRight" fmla="*/ 785160 w 785160"/>
                      <a:gd name="textAreaTop" fmla="*/ 0 h 144000"/>
                      <a:gd name="textAreaBottom" fmla="*/ 144360 h 144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>
                      <a:gd name="textAreaLeft" fmla="*/ 360 w 421200"/>
                      <a:gd name="textAreaRight" fmla="*/ 421920 w 421200"/>
                      <a:gd name="textAreaTop" fmla="*/ 0 h 226440"/>
                      <a:gd name="textAreaBottom" fmla="*/ 226800 h 226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>
                      <a:gd name="textAreaLeft" fmla="*/ 0 w 846720"/>
                      <a:gd name="textAreaRight" fmla="*/ 847080 w 84672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>
                      <a:gd name="textAreaLeft" fmla="*/ 0 w 821160"/>
                      <a:gd name="textAreaRight" fmla="*/ 821520 w 8211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>
                      <a:gd name="textAreaLeft" fmla="*/ 0 w 440280"/>
                      <a:gd name="textAreaRight" fmla="*/ 440640 w 44028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>
                      <a:gd name="textAreaLeft" fmla="*/ 0 w 754920"/>
                      <a:gd name="textAreaRight" fmla="*/ 755280 w 754920"/>
                      <a:gd name="textAreaTop" fmla="*/ 0 h 126000"/>
                      <a:gd name="textAreaBottom" fmla="*/ 126360 h 126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>
                      <a:gd name="textAreaLeft" fmla="*/ 0 w 405360"/>
                      <a:gd name="textAreaRight" fmla="*/ 405720 w 405360"/>
                      <a:gd name="textAreaTop" fmla="*/ 0 h 198000"/>
                      <a:gd name="textAreaBottom" fmla="*/ 198360 h 198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>
                      <a:gd name="textAreaLeft" fmla="*/ 0 w 737640"/>
                      <a:gd name="textAreaRight" fmla="*/ 738000 w 73764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>
                      <a:gd name="textAreaLeft" fmla="*/ 0 w 395640"/>
                      <a:gd name="textAreaRight" fmla="*/ 396000 w 39564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>
                  <a:gd name="textAreaLeft" fmla="*/ 360 w 637200"/>
                  <a:gd name="textAreaRight" fmla="*/ 637920 w 637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9680"/>
                  <a:gd name="textAreaBottom" fmla="*/ 1220040 h 121968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>
                  <a:gd name="textAreaLeft" fmla="*/ 0 w 515520"/>
                  <a:gd name="textAreaRight" fmla="*/ 515880 w 515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-360 h 429480"/>
                  <a:gd name="textAreaBottom" fmla="*/ 429480 h 429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>
                  <a:gd name="textAreaLeft" fmla="*/ -360 w 948600"/>
                  <a:gd name="textAreaRight" fmla="*/ 948600 w 94860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>
                  <a:gd name="textAreaLeft" fmla="*/ -360 w 556200"/>
                  <a:gd name="textAreaRight" fmla="*/ 556200 w 55620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>
                  <a:gd name="textAreaLeft" fmla="*/ 0 w 778680"/>
                  <a:gd name="textAreaRight" fmla="*/ 779040 w 778680"/>
                  <a:gd name="textAreaTop" fmla="*/ 0 h 548280"/>
                  <a:gd name="textAreaBottom" fmla="*/ 548280 h 548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5480"/>
                  <a:gd name="textAreaBottom" fmla="*/ 735840 h 735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>
                  <a:gd name="textAreaLeft" fmla="*/ -360 w 226440"/>
                  <a:gd name="textAreaRight" fmla="*/ 226440 w 22644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960F-6345-4948-821F-CB829B3B9E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>
                        <a:gd name="textAreaLeft" fmla="*/ 0 w 2125440"/>
                        <a:gd name="textAreaRight" fmla="*/ 212580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>
                        <a:gd name="textAreaLeft" fmla="*/ 0 w 1200600"/>
                        <a:gd name="textAreaRight" fmla="*/ 1200960 w 120060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>
                        <a:gd name="textAreaLeft" fmla="*/ 0 w 1904760"/>
                        <a:gd name="textAreaRight" fmla="*/ 1905120 w 19047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>
                        <a:gd name="textAreaLeft" fmla="*/ 0 w 1023480"/>
                        <a:gd name="textAreaRight" fmla="*/ 1023840 w 102348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>
                        <a:gd name="textAreaLeft" fmla="*/ -360 w 1140840"/>
                        <a:gd name="textAreaRight" fmla="*/ 1140840 w 11408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>
                        <a:gd name="textAreaLeft" fmla="*/ -360 w 2236680"/>
                        <a:gd name="textAreaRight" fmla="*/ 223668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>
                        <a:gd name="textAreaLeft" fmla="*/ 360 w 1200960"/>
                        <a:gd name="textAreaRight" fmla="*/ 120168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>
                        <a:gd name="textAreaLeft" fmla="*/ -360 w 1904760"/>
                        <a:gd name="textAreaRight" fmla="*/ 1904760 w 190476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>
                        <a:gd name="textAreaLeft" fmla="*/ 360 w 1356480"/>
                        <a:gd name="textAreaRight" fmla="*/ 1357200 w 13564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040"/>
                        <a:gd name="textAreaBottom" fmla="*/ 356400 h 356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>
                        <a:gd name="textAreaLeft" fmla="*/ 0 w 1424160"/>
                        <a:gd name="textAreaRight" fmla="*/ 1424520 w 142416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>
                        <a:gd name="textAreaLeft" fmla="*/ 0 w 764280"/>
                        <a:gd name="textAreaRight" fmla="*/ 764640 w 764280"/>
                        <a:gd name="textAreaTop" fmla="*/ 0 h 521280"/>
                        <a:gd name="textAreaBottom" fmla="*/ 521640 h 521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5960"/>
                        <a:gd name="textAreaBottom" fmla="*/ 166320 h 165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>
                        <a:gd name="textAreaLeft" fmla="*/ 360 w 2125440"/>
                        <a:gd name="textAreaRight" fmla="*/ 212616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>
                        <a:gd name="textAreaLeft" fmla="*/ 360 w 1140480"/>
                        <a:gd name="textAreaRight" fmla="*/ 114120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>
                        <a:gd name="textAreaLeft" fmla="*/ -360 w 1055160"/>
                        <a:gd name="textAreaRight" fmla="*/ 1055160 w 105516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>
                        <a:gd name="textAreaLeft" fmla="*/ 0 w 2125800"/>
                        <a:gd name="textAreaRight" fmla="*/ 212616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>
                        <a:gd name="textAreaLeft" fmla="*/ 0 w 2034360"/>
                        <a:gd name="textAreaRight" fmla="*/ 2034720 w 203436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>
                        <a:gd name="textAreaLeft" fmla="*/ 0 w 1091160"/>
                        <a:gd name="textAreaRight" fmla="*/ 1091520 w 109116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>
                        <a:gd name="textAreaLeft" fmla="*/ 0 w 1973880"/>
                        <a:gd name="textAreaRight" fmla="*/ 1974240 w 197388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>
                      <a:gd name="textAreaLeft" fmla="*/ 0 w 3165480"/>
                      <a:gd name="textAreaRight" fmla="*/ 3165840 w 3165480"/>
                      <a:gd name="textAreaTop" fmla="*/ -360 h 2522520"/>
                      <a:gd name="textAreaBottom" fmla="*/ 2522520 h 25225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>
                      <a:gd name="textAreaLeft" fmla="*/ -360 w 2485800"/>
                      <a:gd name="textAreaRight" fmla="*/ 2485800 w 24858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>
                      <a:gd name="textAreaLeft" fmla="*/ 0 w 941760"/>
                      <a:gd name="textAreaRight" fmla="*/ 942120 w 9417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>
                  <a:gd name="textAreaLeft" fmla="*/ 360 w 2616480"/>
                  <a:gd name="textAreaRight" fmla="*/ 2617200 w 261648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>
                  <a:gd name="textAreaLeft" fmla="*/ 360 w 1533600"/>
                  <a:gd name="textAreaRight" fmla="*/ 1534320 w 15336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3640"/>
                  <a:gd name="textAreaBottom" fmla="*/ 2934000 h 293364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-360 h 1032120"/>
                  <a:gd name="textAreaBottom" fmla="*/ 103212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>
                  <a:gd name="textAreaLeft" fmla="*/ 0 w 1872000"/>
                  <a:gd name="textAreaRight" fmla="*/ 1872360 w 187200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9E0F-7092-4250-A148-8C6C724233E6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uban Missile Crisis/ Bay of Pigs Invas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447920" y="58669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: Melissa, Liz, Abby, Rosi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9" name="Picture 5" descr="home_collage3"/>
          <p:cNvPicPr/>
          <p:nvPr/>
        </p:nvPicPr>
        <p:blipFill>
          <a:blip r:embed="rId1"/>
          <a:stretch/>
        </p:blipFill>
        <p:spPr>
          <a:xfrm>
            <a:off x="1752480" y="2133720"/>
            <a:ext cx="5448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Bay of Pigs Invasion 4/17-4/19 1961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 Black"/>
              </a:rPr>
              <a:t>A failed invasion by the USA CIA to invade and overthrow Cuba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 Black"/>
              </a:rPr>
              <a:t>The plan was made by president Eisenhower and carried out by his successor John F Kennedy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 Black"/>
              </a:rPr>
              <a:t>The USA wanted to stop Communism right away and Cuba was the closest communist enemy near by.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 Black"/>
              </a:rPr>
              <a:t>The CIA trained anti Castro Cuban Exiles in Miami for invasion.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 Black"/>
              </a:rPr>
              <a:t>The invasion force had 1300 men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 Black"/>
              </a:rPr>
              <a:t>90 men were killed while the rest were captured by Castro’s forces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 Black"/>
              </a:rPr>
              <a:t>The failed plan was a huge humiliation for the JFK administration.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uban Missile Crisis Oct 19-28 1962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fter the failed invasion by the USA Cuba’s communist leader, Castro, was afraid of another attack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He got in contact with the Soviet Uni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Soviet Union knew of the USA placing Jupiter missiles in Turkey and didn’t like thi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Soviet Union then decided to place nuclear Missiles in Cub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USA found the nuclear base and placed a permanent embargo on Cuba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USA discussed with the Soviet Union and both agreed to take their nuclear missiles out of foreign countri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USA shamed Cuba and Castro and cut off all foreign relation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ki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iz = Cuba/Fidel Castr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bby = Soviet/ Nikita Khrushchev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elissa = USA/JFK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IA member = lucky member of audience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Picture 5" descr="Armwrestling"/>
          <p:cNvPicPr/>
          <p:nvPr/>
        </p:nvPicPr>
        <p:blipFill>
          <a:blip r:embed="rId1"/>
          <a:stretch/>
        </p:blipFill>
        <p:spPr>
          <a:xfrm>
            <a:off x="3581280" y="3352680"/>
            <a:ext cx="4572000" cy="32450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ciacoinb"/>
          <p:cNvPicPr/>
          <p:nvPr/>
        </p:nvPicPr>
        <p:blipFill>
          <a:blip r:embed="rId2"/>
          <a:stretch/>
        </p:blipFill>
        <p:spPr>
          <a:xfrm>
            <a:off x="533520" y="3657600"/>
            <a:ext cx="2862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briefing/After Thought on Ski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uba and USSR become friends while USA watches and calls for ac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USA invades Cuba and fail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n USSR puts missiles in Cuba and scares USA. Even though USA has missiles in Turkey near USS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USSR and USA agree to take missiles out of Cuba and Turke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uba is humiliated because they were not involved in the meeting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3 questions to think abou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y did the USA want to invade Cuba so much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made Castro communist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s Russia still clos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ith Cuba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2" name="Picture 5" descr="wh_cuban_missile"/>
          <p:cNvPicPr/>
          <p:nvPr/>
        </p:nvPicPr>
        <p:blipFill>
          <a:blip r:embed="rId1"/>
          <a:stretch/>
        </p:blipFill>
        <p:spPr>
          <a:xfrm>
            <a:off x="2743200" y="3362400"/>
            <a:ext cx="61722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13:28:14Z</dcterms:created>
  <dc:creator>me16079</dc:creator>
  <dc:description/>
  <dc:language>en-US</dc:language>
  <cp:lastModifiedBy>Brandon Amato</cp:lastModifiedBy>
  <dcterms:modified xsi:type="dcterms:W3CDTF">2012-04-19T14:51:09Z</dcterms:modified>
  <cp:revision>3</cp:revision>
  <dc:subject/>
  <dc:title>Cuban Missile Crisis/ Bay of Pigs Invasion</dc:title>
</cp:coreProperties>
</file>