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15E7-B724-42EF-BF47-7FDC15334D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9D03-CC0D-40D5-B53E-28B4763EB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D2BB-8C1D-47ED-AEC4-158CAA0056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B7AD-AFB6-461E-AC62-E27BCCB1FD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415C-8F74-4CB1-B35A-51F5F8D34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3863-9FDE-4739-8438-18E4BBB3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E75C-CA34-4F0A-87CC-E4EBDFBF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E269-0FBC-4FCF-AEFE-9FB1F604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5E50-4F1F-407C-83BB-F504078C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55DB-618E-4544-9B6E-58865B9E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7244-8255-4613-AD97-81152F06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D035-C4D5-47B3-9156-483883A5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078D-8EE8-4527-B5D2-174F07E7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32CC-34F7-472B-847A-39BE3796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0ACF-CC45-4E62-8B5C-CEC7BDE2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C6B8-236F-4220-B6BE-D010D078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A6FE-A789-420A-8349-01909D17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1C88-E6BD-4A75-B6B4-42E0EACF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90D6-308C-427A-A975-A7636E15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01FC-AE2F-4F1B-BA95-47E25864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DC37-0ECE-4A09-B82D-0E109580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BE20-41A6-4E84-82A4-C4CBBDFF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A9B38-847F-4F6F-AA78-F64B1F38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1FA02-DDEA-45D6-92C5-7D2CC046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48736-DEB6-4010-909A-075C2342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92078-E644-4ECE-AB7A-4AB0D4AC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F18F5-5534-428B-B0D2-81BB8469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9044-2CA9-4EBD-9B86-3D5E01BC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128FF-C782-4686-95B3-32EF69BE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1D049-7EE8-4580-88BE-989F4124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F085D-9F4A-40AE-A631-7AFD5745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FC703-DFFD-457E-8740-BBC36B1E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AED33-A5AE-411D-81AD-A8385BFC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2A7D3-9398-4D2B-8FA6-CCCF7371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7133F-BA43-45FD-A854-370D486F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1678A-7F17-4F58-984A-19A7E8B2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DFED3-4025-4293-869F-766A62A3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2B5FC-F29B-4D4C-BC27-F3988F72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4B40-0779-4015-9FB5-2D221613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59ADC-37C8-4057-A10D-1751C42C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BE785-60AA-4CF2-A966-57C1ACFB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013E5-70FB-4AB7-847E-90F73A7B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8934D-2CD8-4D3C-B7F8-F3084439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592EC-4F30-4AF9-80BF-21833C13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7CABA-1CE6-453C-B8B3-AD1E79CF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498EC-918E-419F-BFD6-288938BF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7A47F-AAC5-4B93-B4C7-04C622F2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38C72-A566-4C72-8792-6E53F072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BDF53-78D0-4777-AD09-8C67DD4C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89EA-17CF-4604-AB0E-3B12E1D2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09206-0325-4829-85A5-46244D49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0DE8D-21CF-404E-A563-91A81E2C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07B06-6FFC-4174-A597-43BC90D6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601DE-5EA3-4663-B968-4DF2E5AF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47D9A-1069-49F8-BC63-8E6C33D3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41B87-9843-4D00-8453-225DE30C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DB03A-D76B-4DE1-8F37-770CA1CC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ACD03-FD77-4126-B728-EE8BAB02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58938-CDA3-4657-856A-D278D417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DAE43-65E9-4813-878A-CE3EF835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9C4A-E8A7-4B6C-9F46-EB2DC96D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FBEE7-3E7D-4BF7-8000-36DCD321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02B0A-0053-4065-8073-0417B3E3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172CB-3299-4D71-BD6D-93181FC9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EE367-D567-43CE-A98F-BA20612F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6DFB7-E5BE-4819-90AA-0CEB99FC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7E9AE-E070-43F6-9CCA-E6297BBE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DEF17-BDA0-4024-BE5C-CCB8F3BB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2FD46-DC0E-44EC-96EC-327DDFA9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F7895-0EF5-4E53-94C2-A17E5CCD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A5822-2CB2-4FF7-BE35-121C8923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929F-9F69-4EDF-B9A7-B2791E60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86559-EE8A-42C2-B061-4780F9A9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F1B81-53D9-4EB3-9CB4-56C80DE7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88F70-BCBE-4762-BC8D-F789B40E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0070F-C7CE-4597-A2FA-ED3FBFE5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6BEB4-722C-43D6-8281-0A9466FF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BE733-47F9-462E-9E3F-180614B9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3B0DA-C0E6-4372-90EE-B5AEB4D9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34DE8-2F46-4DC5-BA78-F97D89B0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84F1A-6C7D-4558-A2BA-574044DA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05F6D-41D2-4B67-914A-73B04939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6242-D5E9-46F4-A4B3-AB4D5CCA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AFDE2-3EB8-45F1-98A0-89C816B5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79EDE-B82B-411C-82A3-C079A550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83798-7A69-4243-A57C-5A7D629E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C8597-320E-4CDA-9FE8-64B7245C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9D4FE-65FD-4729-AE05-6546F82FC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BC47-17DC-4EC1-B481-242346D4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7B13-943F-4586-93FE-8C6DD87DB676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60BB-A344-48B1-BC9A-EC736739119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4132-878E-4D2D-95D1-8C57B6ADBAB4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4751-452B-4B09-8D6C-7E0B98889458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2F6D-31D7-43F2-BA65-87735EB996BD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5EDD-E8CE-4EB7-A47C-EBAA29382198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3CCD-6E99-4FC8-A307-CE6798530672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FADD-D390-4909-917A-C613C3B58DF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23E0-D469-4F07-A256-E66C9D739207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E08B-29B7-4C98-99D1-DFADEE62BE4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9328-F5A1-4D2A-B3CB-D4CFC9BF2F0F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826A-D94D-463A-9DEE-5021E659210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4D3F-7528-499A-BF9F-FC40C0783793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6207-159E-4216-BEE2-9BEE57DBFC4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6840" y="1698120"/>
            <a:ext cx="4040280" cy="71604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146160" t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BACKGROUND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6840" y="2403000"/>
            <a:ext cx="4040280" cy="430236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Who?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Egypt, Israel, Britain, France, America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What?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Britain, France and Israel invaded Egypt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When?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October 1956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Where?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Suez Canal/Egyp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Why?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America and Britain didn’t keep their promise to supply money for the dam which upset Egypt so they took control of the Suez Canal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146160" t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SKIT COMPONENTS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644720" y="2438280"/>
            <a:ext cx="4041720" cy="426744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Our skit explains the crisis through the views of different countries involved. It will mention the alliances and the different events throughout the crisis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Role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Nic = France/Britain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Juan = Egypt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Tim = Soviet Union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Amy = America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28600" y="22860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1ad00"/>
                </a:solidFill>
                <a:latin typeface="Corbel"/>
              </a:rPr>
              <a:t>Suez Cri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6840" y="1698120"/>
            <a:ext cx="4040280" cy="71604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146160" t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DEBRIEF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146160" t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Thinking Like a Historian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647960" y="2286000"/>
            <a:ext cx="4041720" cy="430200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e effect of the aftermath of the Suez Crisis caused the beginning of the end of France and Britain’s empires because of the embarrassment of being defeated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is represents how the Suez Crisis affected the long term outcome for France and Britai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2362320"/>
            <a:ext cx="4041720" cy="430200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Suez Canal was very important for trade, especially for Britain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main cause of the crisis was America and Britain went back on their promise to pay for the dam that Egypt wanted in the Suez Canal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We, the US, didn’t want to get involved because we were angry with Britain/France for invading Egypt and it could get out of control quickly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914640" cy="3429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3"/>
          <a:stretch/>
        </p:blipFill>
        <p:spPr>
          <a:xfrm>
            <a:off x="5181480" y="1676520"/>
            <a:ext cx="31464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03:46:33Z</dcterms:created>
  <dc:creator>Brandon Amato</dc:creator>
  <dc:description/>
  <dc:language>en-US</dc:language>
  <cp:lastModifiedBy>Brandon Amato</cp:lastModifiedBy>
  <dcterms:modified xsi:type="dcterms:W3CDTF">2012-04-19T15:02:13Z</dcterms:modified>
  <cp:revision>11</cp:revision>
  <dc:subject/>
  <dc:title>NAME OF EVENT(S)</dc:title>
</cp:coreProperties>
</file>