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5BAF-0181-4467-9082-A2EB58D7EE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4BC9-1A3F-4FFF-8612-033DE47B4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8E42-0F06-4E34-9419-3B5EC30DD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9FA3-9C0A-4D3C-B869-1E81E79EE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6616-84CA-4C77-9967-88D8D2070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1AF-EDEB-47FF-9BD3-2A4BB65A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0D9-E83B-4BFD-8B43-F72D3F2C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97C-328A-449E-9223-FE579134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A40-A824-47CC-B860-79BF6B44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A5FF-ED2B-4AE5-9A11-81CCE355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F944-6B2A-4C90-AD88-E57CD0F3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F293-53BB-4248-A358-81778335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F150-E471-43D2-BBA1-71ACA081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68FA-EC2E-49C4-B2C0-ED6612F7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1AB1-CB6C-44A6-82C8-EF2F60F7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B14A-0A1E-40D2-A2B7-3760187F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AA8-A04C-4F88-874C-12A7C50E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7C1B-B631-4CEF-898C-AF846DF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56F0-29B1-4F0D-8D1A-35CC8509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DFBC-D586-46F8-9BDC-38F16B4D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876D-C603-4D56-A9E1-C39D2BD6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D400-192C-4F0B-ACD2-46659F6A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2513-6504-444A-9B5A-C472E1DA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9705-3326-4B28-80C8-C5786CD8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D8CE-7219-4525-9459-8E12A17F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8C4D-3AD3-4BE1-AD4E-3DEF8724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A753-23D2-4310-9249-1C65ADD7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E54-3003-40BF-A420-6E8B6FB0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912F-5321-4792-9172-62D374C4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172E-A647-4A55-9D5A-E2234006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45D1-7463-4496-8EFF-BD5CD94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A036-88F9-465C-B293-51F133B4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3ECF-9C88-453F-BEAC-71DEFF5C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97B6-AC18-4803-9616-8EADC32E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302B-463C-4EC5-8378-AB04358D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46CA-5694-40B3-9213-DF8FC0CE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A52B-C11F-4677-9FC7-51A0DE57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7364-D4B8-4A9F-9F2B-B308D90B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87E-4119-464A-8586-B86D130F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3B55-99FF-47AD-ADD7-B0351B17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57DEA-ED47-432B-B34E-67BDD0A5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E27DB-0F07-40D4-B378-4EE5724C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CB1EB-3607-4AA2-84D7-4FAEEEE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D206-C4B6-49F1-A027-33F58D20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B070B-8F18-48A6-AADD-B9EC627C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6ADA2-FAF7-4811-802F-6BB85045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1EB4-AF4E-46E1-946B-03EC6A2F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92C35-76BB-4964-AB74-570E3EEE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6CA1C-4796-49B4-8BD0-429B8D9F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1BF-4581-42E6-BE29-9C2516A4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C5F07-0CFE-40CF-AF22-432C3D95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1EF03-81CF-4CEB-A19B-5E13CA05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6BE5D-2C28-493E-BDA0-FBD39195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336D4-0ED4-400D-873F-E8808386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F19FD-7629-4781-9C01-F5C41906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699F-EAA3-4500-947D-C1B9BE61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2FC4D-6EF1-464F-86AD-4E2C9AC2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8DAFD-C9B5-41A9-AA2A-0560FC1D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A325-66DE-401D-B61C-831BE17D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10F7-52AA-4ACB-B236-62D68A0F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2B1-02F1-446E-8222-97BD700F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06C8-1AA9-4548-B82F-2A0AD23C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11F07-E4E7-4AC2-BD05-1E38262D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2756D-0644-4130-A74B-A961B741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8577D-54D1-4274-A7FC-83373DFC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F99E8-7389-4D38-B7AC-7E014103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27443-11D0-4012-845D-F544AA23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C9C2D-2177-4161-B3EB-7D44457C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69ECA-FEA5-4371-83B1-7911448D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BE73-9F39-42FA-B390-E65FEC9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741F0-AB9B-4628-BD74-5D81D316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830-32EF-44DD-8E0C-BEBDA7D6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54825-3A7A-4282-A788-CFD3E381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A8EC5-A61D-425C-8B80-95B3FEC9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D4804-4E47-48E1-A3F5-C581D60B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E8F8A-B4EF-4C22-9D57-2BADD6FA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ACA38-15CC-4274-B279-020EA68F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8827C-AA6D-437F-9597-F99C8A93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9E09B-3139-4FA4-90DE-C73D84D5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99FC1-D6A7-4CA9-B0FD-68D1C24C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CF0C6-F9E5-49E3-B709-0D432560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6B51F-CD26-4895-B786-4AD2B46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40B-5A02-4369-9F93-D81EB601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CA4F9-9946-43A5-9AB2-67828497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8C67A-48D8-42C1-8C80-3A18B13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F963C-5478-4121-AC31-87A339E8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EBF43-BBD3-4D38-B5F3-F33571B9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0896-6028-410C-98CF-25DE7CC8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D9C-2F19-4019-86D0-BCF14E29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2DF6-B81D-47DE-9BFF-48E8BD25E0F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0C34-4F07-4670-9967-1740A490BF0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6E42-B3AC-44EF-AA76-5D24404C3F18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0CE1-8E34-455F-B120-6B5BCC1C0F9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22F9-8FA9-4E9C-9172-5CA57899ABDD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F964-5954-44FC-986B-913F5F85FB8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F513-29DE-440D-8CAD-393A0EF2C78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4600-5D18-4EEC-9BE3-6B7AFD06B5C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0672-2BC2-4AE7-95B5-9C03654AFAC1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1D58-ACD1-4BD9-8DFB-52EE53DFE44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3D27-0291-4941-9766-31F390F20DC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264E-66E2-4D3E-BD1B-1BDB4F6A8D6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4647-AAE5-44AA-BA6D-BFF2411E020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968F-3F48-4D99-ACFC-E1D329F0631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BACKGROUN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2403000"/>
            <a:ext cx="4040280" cy="430236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o?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Egypt, Israel, Britain, France, Americ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at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Britain, France and Israel invaded Egypt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n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October 1956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re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Suez Canal/Egyp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America and Britain didn’t keep their promise to supply money for the dam which upset Egypt so they took control of the Suez Canal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KIT COMPONENTS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4720" y="2438280"/>
            <a:ext cx="4041720" cy="42674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Our skit explains the crisis through the views of different countries involved. It will mention the alliances and the different events throughout the crisis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Ro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Nic = France/Britai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Juan = Egypt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Tim = Soviet Unio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Amy = Americ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28600" y="2286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1ad00"/>
                </a:solidFill>
                <a:latin typeface="Corbel"/>
              </a:rPr>
              <a:t>Suez Cri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DEBRIEF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hinking Like a Historia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7960" y="228600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effect of the aftermath of the Suez Crisis caused the beginning of the end of France and Britain’s empires because of the embarrassment of being defeated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is represents how the Suez Crisis affected the long term outcome for France and Britai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36232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uez Canal was very important for trade, especially for Britain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in cause of the crisis was America and Britain went back on their promise to pay for the dam that Egypt wanted in the Suez Cana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e, the US, didn’t want to get involved because we were angry with Britain/France for invading Egypt and it could get out of control quickly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14640" cy="3429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464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3:46:33Z</dcterms:created>
  <dc:creator>Brandon Amato</dc:creator>
  <dc:description/>
  <dc:language>en-US</dc:language>
  <cp:lastModifiedBy>Brandon Amato</cp:lastModifiedBy>
  <dcterms:modified xsi:type="dcterms:W3CDTF">2012-04-19T15:02:13Z</dcterms:modified>
  <cp:revision>11</cp:revision>
  <dc:subject/>
  <dc:title>NAME OF EVENT(S)</dc:title>
</cp:coreProperties>
</file>