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693-5607-45B3-9887-2F061A7320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758-498A-4EFB-B485-1771D80F1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E5BA-EA8F-4C59-ABC5-3F8F3909E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0EC8-EE76-48A3-9E4C-BA7BDB437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52C5-CC88-42BC-83CE-131E1D0D7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5E0-80A9-4879-93E9-627E8DFC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E18-4003-4367-9D71-409704C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F4B-6609-43D0-8D25-7861DB5D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C72-69F7-414A-AE20-BB3F199C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2AC-20BB-490B-9318-44C67567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D4C1-BC34-4BFB-B5A5-D5A73A3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C5A8-AF9D-4D16-97A7-8AD4C39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A2D-F552-4AB7-B8E0-0EF14B4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481F-9289-44A1-93E8-33E11FA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4E91-1137-4C00-8C90-EDF3333C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7CF-0991-4DEA-A1BE-6A40242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352-C8B8-4CCB-8C08-65682DD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AFCD-2913-460B-BF9B-E4FAE71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6DB4-6883-4456-8451-580330A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180F-E9C5-44ED-8F77-B9303AA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EED-157B-4EA7-B23A-B2C4414A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37F-A569-40F1-A1B4-394267BF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18FC-1879-4FFF-A030-9705D9A1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46A2-3E14-4BB4-A5D8-AF19981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BAAB-616A-459D-8D21-AE96B67A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9CF4-4576-453C-9725-E24EABB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7891-45BA-4BB2-B3E7-6B798993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D54-0345-4D0B-85DD-A64F5C5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A8F0-5462-4B83-8216-55A1C0A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9C05-B4EC-4E07-9D43-D4BC55A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3F77-96B6-4677-B7DD-158B1C3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0DA7-0080-42E7-85D7-E6A2880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0033-48F9-449D-8A16-4E3B242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23FD-6578-4A1D-837B-EBC741E4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253B-BC50-4394-BFEC-C8E42833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4FFD-17E8-433A-8713-93762936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D514-F1A9-4877-B142-51D5C597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D4BF-B067-4B1B-9288-4F7827C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4CC-3E88-4B0B-919F-3C1C869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BD5B-D592-45D5-BD45-14D382D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B370-968D-4DB3-BC61-285E356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97A6-DBB1-4CE4-83FC-43FF4B6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0D0F-F21D-49DC-A103-2E5C3CF9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22B9-1509-4238-ACB9-03DDE6E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DAA5-F4CE-4E9D-8A1C-D96C0B1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20BE-7A3D-41DA-93D4-84E74274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36C80-F4DA-498F-A6B5-C965183A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BBBD-B050-4006-9546-CFA27EFE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6CCC-05E4-464F-AF5A-3015CC48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74A-801B-4F6E-904A-DE9F616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EEF3-1C62-4DFC-A935-DA67D739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97C9-6126-4748-B2B9-113F534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C30CC-E66A-4BAE-B372-F0561CE1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E4E68-14B9-417C-ACD3-404F462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8D467-7BC8-41EA-A28C-B4718CA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4264-F5E6-4E17-BC9D-79A0DD8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43A9B-7483-498C-8DF8-88447AA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D1AD-5A07-4F5A-B4E8-531236D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E992-52A8-4572-981E-755FCFB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20A7-5A48-40C2-8F77-79F43F16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88E-67DD-4787-A9AA-A0D5BFD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DEDE-D371-43F3-9BF9-E89706E2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EC5A7-0E26-4061-9EFD-E7DE378E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D6F01-6076-464E-8C97-A564D0BD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8D15-5231-4A8A-AFFF-2126EB4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80CF-9F41-43A8-B1B4-6C47A1A7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18C1-31C3-41F0-ADBB-C38AF64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A301-3745-4B86-8F11-A78F3932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E936-5D5B-4190-824B-F6CD352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242D5-F35A-4055-90C0-1210B63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38A8-3C42-4850-9FF1-6E106844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CB6-1803-4BC3-994F-3C787629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2B5F-0569-4968-87D4-D8FF6F7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DE53-9BD5-4A3B-A687-BF919670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AB48B-221E-4C14-949C-8BD72CAB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3707-C68F-4F2E-93DD-D8319A2B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36E2-0A24-4F05-96B0-13E33BDB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E3A6C-0F39-48C5-86E5-EB1CD42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EF05-2ED7-457C-A9CF-786FBC1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F0C9B-5E20-435C-80B6-018F192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F5BD-8129-4127-86B4-13E4C190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7F72D-5A8C-4F2B-A5F0-DC61659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4BF-921D-422D-9D5D-47659D6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5385-9639-4388-B743-03EA708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FBED-856B-42CF-A998-150FE828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F56A6-6EAF-460C-90C5-0BBED71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92C5-2E98-4A4E-8246-B9B98B42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2FBA1-F71C-4135-BC26-7011C83A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FA9-2B55-492E-A0C4-942B7AB0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F93-C153-4384-95C1-11499B2A26C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E62-B20A-48FB-BDCD-55BF5D92E11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195C-E605-487C-A086-B5C4AB731E2F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7170-3392-4889-A764-906C2317E1A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B5F-AC71-4758-A7AD-97FEDA63293C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742-A25B-4DC4-8E1F-1382CBE9675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DDE9-2FA9-49CE-A1AD-A73A9065119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781-33CF-43B7-9958-6164B9453B0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0D8C-CBD3-4C7F-A2B1-9EE349D3E87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52B6-F24D-4053-917E-298F031A9FA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66B-3AE2-46C8-A1CD-3CFA7ADE1A1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D76A-BBAA-4BDE-9D55-040C6B8E283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4CDD-BBCA-4488-9B4F-2FD5E20F1B4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E8B7-F5E7-4975-AFCC-2B6D80B90C6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BACKGROUN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2403000"/>
            <a:ext cx="4040280" cy="430236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o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Egypt, Israel, Britain, France, Amer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Britain, France and Israel invaded Egypt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October 195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uez Canal/Egyp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America and Britain didn’t keep their promise to supply money for the dam which upset Egypt so they took control of the Suez Cana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KIT COMPONENT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2438280"/>
            <a:ext cx="4041720" cy="42674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Our skit explains the crisis through the views of different countries involved. It will mention the alliances and the different events throughout the crisi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Nic = France/Britai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Juan = Egyp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Tim = Soviet Un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Amy = Americ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2860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1ad00"/>
                </a:solidFill>
                <a:latin typeface="Corbel"/>
              </a:rPr>
              <a:t>Suez Cri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DEBRIEF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inking Like a Historia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228600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effect of the aftermath of the Suez Crisis caused the beginning of the end of France and Britain’s empires because of the embarrassment of being defeat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represents how the Suez Crisis affected the long term outcome for France and Britai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36232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uez Canal was very important for trade, especially for Britain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in cause of the crisis was America and Britain went back on their promise to pay for the dam that Egypt wanted in the Suez Ca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e, the US, didn’t want to get involved because we were angry with Britain/France for invading Egypt and it could get out of control quickly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14640" cy="3429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464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3:46:33Z</dcterms:created>
  <dc:creator>Brandon Amato</dc:creator>
  <dc:description/>
  <dc:language>en-US</dc:language>
  <cp:lastModifiedBy>Brandon Amato</cp:lastModifiedBy>
  <dcterms:modified xsi:type="dcterms:W3CDTF">2012-04-19T15:02:13Z</dcterms:modified>
  <cp:revision>11</cp:revision>
  <dc:subject/>
  <dc:title>NAME OF EVENT(S)</dc:title>
</cp:coreProperties>
</file>